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84C-502C-49AE-93D1-8F35FEB0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460-3DB9-40D8-9D77-F9954017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A98-EAE3-4521-85EB-2FCF267B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721-0498-448B-A1A5-9CB05F8F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C7D-6D72-4DC8-840A-7E4F85B8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DF1-0BA6-4F0E-96F9-280D2A9E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156-300F-4433-A0BF-505F39DB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B9C-F064-4E9C-A567-4754D934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CAF-6951-405D-8CBA-801D7EB0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B5B-4C14-447B-8B50-45E0FC96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4FE-DB1C-46B4-A4FA-8A010C68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E5C-8AD4-4F11-9242-FFA58AC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6DAB-F2A7-4EC2-AFE6-C985E162E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260280"/>
          <a:ext cx="8229600" cy="612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0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 систему уравнений, определив метод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у = -3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– у = 5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 систему уравнений, определив метод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3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+ 3a = 9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 систему уравнений, определив метод решения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- у = 2,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у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= 8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 систему уравнений, используя разные методы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3b = 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 – 3b = 9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AutoShape 14"/>
          <p:cNvSpPr/>
          <p:nvPr/>
        </p:nvSpPr>
        <p:spPr>
          <a:xfrm>
            <a:off x="1763640" y="2637000"/>
            <a:ext cx="216000" cy="64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900000" y="5229360"/>
            <a:ext cx="71640" cy="574560"/>
          </a:xfrm>
          <a:custGeom>
            <a:avLst/>
            <a:gdLst>
              <a:gd name="textAreaLeft" fmla="*/ 45720 w 71640"/>
              <a:gd name="textAreaRight" fmla="*/ 72000 w 71640"/>
              <a:gd name="textAreaTop" fmla="*/ 14760 h 574560"/>
              <a:gd name="textAreaBottom" fmla="*/ 55980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6"/>
          <p:cNvSpPr/>
          <p:nvPr/>
        </p:nvSpPr>
        <p:spPr>
          <a:xfrm>
            <a:off x="7885080" y="6524640"/>
            <a:ext cx="647640" cy="333360"/>
          </a:xfrm>
          <a:prstGeom prst="leftArrow">
            <a:avLst>
              <a:gd name="adj1" fmla="val 50000"/>
              <a:gd name="adj2" fmla="val 48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2"/>
          <p:cNvSpPr/>
          <p:nvPr/>
        </p:nvSpPr>
        <p:spPr>
          <a:xfrm>
            <a:off x="5508720" y="2997360"/>
            <a:ext cx="215640" cy="649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6"/>
          <p:cNvSpPr/>
          <p:nvPr/>
        </p:nvSpPr>
        <p:spPr>
          <a:xfrm>
            <a:off x="4859280" y="5300640"/>
            <a:ext cx="216000" cy="6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28796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1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№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ешение: 1) у = х-5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5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2(х – 5) = -3;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2х – 10 = -3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2х – 7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144; х1 = -1,4; х2 = 1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Если х1 = -1,4, то у1 = -1,4 – 5 = -6,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х2 = 1, то у2 = 1 – 5 = -4.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Ответ: (-1,4; -6,4), (1; 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3573000"/>
            <a:ext cx="8638920" cy="28083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ешение: 1) х = 2 + 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(2+у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8; 4 + 4у +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8;  4у – 4 = 0; у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Если у = 1, то х = 2 + 1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Ответ: (3;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1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№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ешение: 1) вычтем из первого уравнения второ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-2а = -6; а = 3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одставим вместо переменной а полученное число 3 в одно из уравнений данной системы: 3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3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0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0;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Ответ: (3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3284280"/>
            <a:ext cx="822960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№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ешение: 1) сложим первое и второе уравнения: 4а =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2 : 4; а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одставим вместо переменной а полученное число 3 в одно из уравнений данной системы: 6 –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9; -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9 – 6 = 3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Ответ: (3; -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7667640" y="63086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терии оце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ы все задания правильно, без оши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а одна или две арифметические ошиб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 решено одно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ешено верно ни одного зад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AutoShape 28"/>
          <p:cNvSpPr/>
          <p:nvPr/>
        </p:nvSpPr>
        <p:spPr>
          <a:xfrm>
            <a:off x="7885080" y="6369120"/>
            <a:ext cx="976320" cy="488880"/>
          </a:xfrm>
          <a:prstGeom prst="leftArrow">
            <a:avLst>
              <a:gd name="adj1" fmla="val 50000"/>
              <a:gd name="adj2" fmla="val 49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Organization Chart 4"/>
          <p:cNvGrpSpPr/>
          <p:nvPr/>
        </p:nvGrpSpPr>
        <p:grpSpPr>
          <a:xfrm>
            <a:off x="468360" y="836640"/>
            <a:ext cx="8229600" cy="5317200"/>
            <a:chOff x="468360" y="836640"/>
            <a:chExt cx="8229600" cy="5317200"/>
          </a:xfrm>
        </p:grpSpPr>
        <p:cxnSp>
          <p:nvCxnSpPr>
            <p:cNvPr id="60" name="_s1028"/>
            <p:cNvCxnSpPr>
              <a:stCxn id="61" idx="0"/>
              <a:endCxn id="62" idx="2"/>
            </p:cNvCxnSpPr>
            <p:nvPr/>
          </p:nvCxnSpPr>
          <p:spPr>
            <a:xfrm flipV="1" rot="16200000">
              <a:off x="5945040" y="2797200"/>
              <a:ext cx="664920" cy="3389400"/>
            </a:xfrm>
            <a:prstGeom prst="bentConnector3">
              <a:avLst>
                <a:gd name="adj1" fmla="val 171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29"/>
            <p:cNvCxnSpPr>
              <a:stCxn id="64" idx="0"/>
              <a:endCxn id="62" idx="2"/>
            </p:cNvCxnSpPr>
            <p:nvPr/>
          </p:nvCxnSpPr>
          <p:spPr>
            <a:xfrm flipV="1" rot="16200000">
              <a:off x="5097960" y="3644280"/>
              <a:ext cx="664920" cy="1695240"/>
            </a:xfrm>
            <a:prstGeom prst="bentConnector3">
              <a:avLst>
                <a:gd name="adj1" fmla="val 171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0"/>
            <p:cNvCxnSpPr>
              <a:stCxn id="66" idx="0"/>
              <a:endCxn id="62" idx="2"/>
            </p:cNvCxnSpPr>
            <p:nvPr/>
          </p:nvCxnSpPr>
          <p:spPr>
            <a:xfrm flipV="1" rot="16200000">
              <a:off x="4251240" y="4491000"/>
              <a:ext cx="664920" cy="1440"/>
            </a:xfrm>
            <a:prstGeom prst="bentConnector3">
              <a:avLst>
                <a:gd name="adj1" fmla="val 171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1"/>
            <p:cNvCxnSpPr>
              <a:stCxn id="68" idx="0"/>
              <a:endCxn id="62" idx="2"/>
            </p:cNvCxnSpPr>
            <p:nvPr/>
          </p:nvCxnSpPr>
          <p:spPr>
            <a:xfrm flipH="1" flipV="1" rot="5400000">
              <a:off x="3404880" y="3645360"/>
              <a:ext cx="664920" cy="1693440"/>
            </a:xfrm>
            <a:prstGeom prst="bentConnector3">
              <a:avLst>
                <a:gd name="adj1" fmla="val 171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2"/>
            <p:cNvCxnSpPr>
              <a:stCxn id="70" idx="0"/>
              <a:endCxn id="62" idx="2"/>
            </p:cNvCxnSpPr>
            <p:nvPr/>
          </p:nvCxnSpPr>
          <p:spPr>
            <a:xfrm flipH="1" flipV="1" rot="5400000">
              <a:off x="2556360" y="2797200"/>
              <a:ext cx="664920" cy="3389400"/>
            </a:xfrm>
            <a:prstGeom prst="bentConnector3">
              <a:avLst>
                <a:gd name="adj1" fmla="val 171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3"/>
            <p:cNvCxnSpPr>
              <a:stCxn id="62" idx="0"/>
              <a:endCxn id="72" idx="2"/>
            </p:cNvCxnSpPr>
            <p:nvPr/>
          </p:nvCxnSpPr>
          <p:spPr>
            <a:xfrm flipV="1" rot="16200000">
              <a:off x="3402720" y="1650240"/>
              <a:ext cx="665640" cy="1695240"/>
            </a:xfrm>
            <a:prstGeom prst="bentConnector3">
              <a:avLst>
                <a:gd name="adj1" fmla="val 172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4"/>
            <p:cNvCxnSpPr>
              <a:stCxn id="74" idx="0"/>
              <a:endCxn id="72" idx="2"/>
            </p:cNvCxnSpPr>
            <p:nvPr/>
          </p:nvCxnSpPr>
          <p:spPr>
            <a:xfrm flipH="1" flipV="1" rot="5400000">
              <a:off x="1708560" y="1650600"/>
              <a:ext cx="665640" cy="1694520"/>
            </a:xfrm>
            <a:prstGeom prst="bentConnector3">
              <a:avLst>
                <a:gd name="adj1" fmla="val 172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1035"/>
            <p:cNvSpPr/>
            <p:nvPr/>
          </p:nvSpPr>
          <p:spPr>
            <a:xfrm>
              <a:off x="2162160" y="836640"/>
              <a:ext cx="1452600" cy="13291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истемы  уравн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6"/>
            <p:cNvSpPr/>
            <p:nvPr/>
          </p:nvSpPr>
          <p:spPr>
            <a:xfrm>
              <a:off x="468360" y="2831040"/>
              <a:ext cx="1452600" cy="1329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Графический  способ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856680" y="2831040"/>
              <a:ext cx="1452600" cy="1329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Аналитический  способ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8"/>
            <p:cNvSpPr/>
            <p:nvPr/>
          </p:nvSpPr>
          <p:spPr>
            <a:xfrm>
              <a:off x="468360" y="4824720"/>
              <a:ext cx="1452600" cy="1329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тод подстанов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9"/>
            <p:cNvSpPr/>
            <p:nvPr/>
          </p:nvSpPr>
          <p:spPr>
            <a:xfrm>
              <a:off x="2162880" y="4824720"/>
              <a:ext cx="1452600" cy="1329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тод замены перемен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0"/>
            <p:cNvSpPr/>
            <p:nvPr/>
          </p:nvSpPr>
          <p:spPr>
            <a:xfrm>
              <a:off x="3857760" y="4824720"/>
              <a:ext cx="1451880" cy="1329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тод Гау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1"/>
            <p:cNvSpPr/>
            <p:nvPr/>
          </p:nvSpPr>
          <p:spPr>
            <a:xfrm>
              <a:off x="5551920" y="4824720"/>
              <a:ext cx="1451880" cy="1329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тод  алгебраического сло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2"/>
            <p:cNvSpPr/>
            <p:nvPr/>
          </p:nvSpPr>
          <p:spPr>
            <a:xfrm>
              <a:off x="7246080" y="4824720"/>
              <a:ext cx="1451880" cy="1329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етод почленного (∙) и (:) уравн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24"/>
          <p:cNvSpPr/>
          <p:nvPr/>
        </p:nvSpPr>
        <p:spPr>
          <a:xfrm>
            <a:off x="7885080" y="6369120"/>
            <a:ext cx="976320" cy="488880"/>
          </a:xfrm>
          <a:prstGeom prst="leftArrow">
            <a:avLst>
              <a:gd name="adj1" fmla="val 50000"/>
              <a:gd name="adj2" fmla="val 49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4:28:19Z</dcterms:created>
  <dc:creator>Света</dc:creator>
  <dc:description/>
  <dc:language>en-US</dc:language>
  <cp:lastModifiedBy>ILYA</cp:lastModifiedBy>
  <dcterms:modified xsi:type="dcterms:W3CDTF">2012-11-30T15:36:54Z</dcterms:modified>
  <cp:revision>10</cp:revision>
  <dc:subject/>
  <dc:title>ответы на тест</dc:title>
</cp:coreProperties>
</file>