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5E3-C0B0-49A1-8D02-0C32B83F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C44-CFE4-4836-A1A6-9D577D4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34E-615A-4CD2-87DC-ECBD2223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FE2-5B53-4C77-B64D-0E35CB01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4F89-93F5-496C-9A65-634D3183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170B-3D53-46A1-BCB3-80F0A744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6E73-7E23-4EF1-98C7-3582DBB6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C0A3-5C5C-47B3-BB2E-0526F8B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9E9E-33CA-4E36-A5BE-4A23F24C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0A20-3C79-420C-ADFD-F6FD0F41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099-74B4-4942-8452-E7BE129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A62-3666-40AF-A3A0-02D810D9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2839-E841-4F04-880C-16EA916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E164-90FB-4F46-89FD-CD6D967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D20-F736-4436-952E-FD7FEE8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429-1675-4375-B0E9-EB18C14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1849-CDFE-4D80-A447-7B520E16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4A0-992D-4D8A-9590-0F6069D2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925-620C-48EE-80EE-364F6575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C83-9052-4B84-BBB1-E0EE633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E58-B1C6-4781-B72A-DC7B675A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B20-D4AA-400F-92F9-E218EEA9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744-966A-4579-A934-F55278C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6B8-9F1F-45E4-B343-51BD9B50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45B7-3F35-44B4-AAB9-8FBA4AC6A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794-36EA-4D4F-8EAD-F4CCE9CC5CB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4200" y="28584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800" spc="-1" strike="noStrike">
                <a:solidFill>
                  <a:srgbClr val="eaeaea"/>
                </a:solidFill>
                <a:latin typeface="Times New Roman"/>
              </a:rPr>
              <a:t>«Я думаю, что никогда до настоящего времени мы не жили в такой геометрический период. Все вокруг нас - геометрия»</a:t>
            </a:r>
            <a:endParaRPr b="0" lang="en-US" sz="5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a347"/>
                </a:solidFill>
                <a:latin typeface="Times New Roman"/>
              </a:rPr>
              <a:t>Французский архитектор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a347"/>
                </a:solidFill>
                <a:latin typeface="Times New Roman"/>
              </a:rPr>
              <a:t>Ле Корбюзье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eaeaea"/>
                </a:solidFill>
                <a:latin typeface="Times New Roman"/>
              </a:rPr>
              <a:t>30.</a:t>
            </a:r>
            <a:br>
              <a:rPr sz="6900"/>
            </a:br>
            <a:r>
              <a:rPr b="0" lang="ru-RU" sz="6900" spc="-1" strike="noStrike">
                <a:solidFill>
                  <a:srgbClr val="eaeaea"/>
                </a:solidFill>
                <a:latin typeface="Arial"/>
              </a:rPr>
              <a:t>Формула площади трапеции</a:t>
            </a:r>
            <a:endParaRPr b="0" lang="en-US" sz="6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3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6"/>
          <p:cNvSpPr/>
          <p:nvPr/>
        </p:nvSpPr>
        <p:spPr>
          <a:xfrm>
            <a:off x="5410080" y="4724280"/>
            <a:ext cx="609840" cy="1800"/>
          </a:xfrm>
          <a:prstGeom prst="line">
            <a:avLst/>
          </a:prstGeom>
          <a:ln w="9360">
            <a:solidFill>
              <a:srgbClr val="cc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" action="ppaction://hlinkshowjump?jump=previousslide"/>
          </p:cNvPr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8569"/>
                </a:moveTo>
                <a:lnTo>
                  <a:pt x="7301" y="8569"/>
                </a:lnTo>
                <a:lnTo>
                  <a:pt x="7301" y="13904"/>
                </a:lnTo>
                <a:cubicBezTo>
                  <a:pt x="7301" y="14826"/>
                  <a:pt x="8102" y="15558"/>
                  <a:pt x="9138" y="15558"/>
                </a:cubicBezTo>
                <a:lnTo>
                  <a:pt x="10800" y="15558"/>
                </a:lnTo>
                <a:cubicBezTo>
                  <a:pt x="11836" y="15558"/>
                  <a:pt x="12636" y="14826"/>
                  <a:pt x="12636" y="13904"/>
                </a:cubicBezTo>
                <a:lnTo>
                  <a:pt x="12636" y="8569"/>
                </a:lnTo>
                <a:lnTo>
                  <a:pt x="10800" y="8569"/>
                </a:lnTo>
                <a:lnTo>
                  <a:pt x="14308" y="5061"/>
                </a:lnTo>
                <a:lnTo>
                  <a:pt x="17981" y="8569"/>
                </a:lnTo>
                <a:lnTo>
                  <a:pt x="16144" y="8569"/>
                </a:lnTo>
                <a:lnTo>
                  <a:pt x="16144" y="13904"/>
                </a:lnTo>
                <a:cubicBezTo>
                  <a:pt x="16144" y="16672"/>
                  <a:pt x="13568" y="19231"/>
                  <a:pt x="10800" y="19231"/>
                </a:cubicBezTo>
                <a:lnTo>
                  <a:pt x="9138" y="19231"/>
                </a:lnTo>
                <a:cubicBezTo>
                  <a:pt x="6370" y="19231"/>
                  <a:pt x="3794" y="16672"/>
                  <a:pt x="3794" y="13904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-84240"/>
            <a:ext cx="708660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40.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Формула площади ромба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(через диагонали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3808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eaeaea"/>
                </a:solidFill>
                <a:latin typeface="Times New Roman"/>
              </a:rPr>
              <a:t>10.</a:t>
            </a:r>
            <a:endParaRPr b="0" lang="en-US" sz="7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1904760" y="2133720"/>
            <a:ext cx="1523880" cy="2819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3429000" y="2133720"/>
            <a:ext cx="5181480" cy="990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7"/>
          <p:cNvSpPr/>
          <p:nvPr/>
        </p:nvSpPr>
        <p:spPr>
          <a:xfrm flipV="1">
            <a:off x="1905120" y="3124080"/>
            <a:ext cx="6705360" cy="18288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3429000" y="2133720"/>
            <a:ext cx="609480" cy="2209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73392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73392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1905120" y="56386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=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V="1">
            <a:off x="3962520" y="4114800"/>
            <a:ext cx="228600" cy="763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4191120" y="4114800"/>
            <a:ext cx="7596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eaeaea"/>
                </a:solidFill>
                <a:latin typeface="Times New Roman"/>
              </a:rPr>
              <a:t>20.</a:t>
            </a:r>
            <a:endParaRPr b="0" lang="en-US" sz="6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AutoShape 3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828800" y="5257800"/>
            <a:ext cx="22096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828800" y="1143000"/>
            <a:ext cx="2209680" cy="41148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7150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=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895480" y="2590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33520" y="243828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8"/>
              <p:cNvSpPr txBox="1"/>
              <p:nvPr/>
            </p:nvSpPr>
            <p:spPr>
              <a:xfrm>
                <a:off x="4514760" y="3213000"/>
                <a:ext cx="114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9"/>
              <p:cNvSpPr txBox="1"/>
              <p:nvPr/>
            </p:nvSpPr>
            <p:spPr>
              <a:xfrm>
                <a:off x="4514760" y="3213000"/>
                <a:ext cx="114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Text Box 21"/>
          <p:cNvSpPr/>
          <p:nvPr/>
        </p:nvSpPr>
        <p:spPr>
          <a:xfrm>
            <a:off x="762120" y="29718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3520" y="342900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5"/>
              <p:cNvSpPr txBox="1"/>
              <p:nvPr/>
            </p:nvSpPr>
            <p:spPr>
              <a:xfrm>
                <a:off x="914400" y="3048120"/>
                <a:ext cx="762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5" name="Text Box 26"/>
          <p:cNvSpPr/>
          <p:nvPr/>
        </p:nvSpPr>
        <p:spPr>
          <a:xfrm>
            <a:off x="609480" y="3124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Freeform 27"/>
          <p:cNvSpPr/>
          <p:nvPr/>
        </p:nvSpPr>
        <p:spPr>
          <a:xfrm>
            <a:off x="1838160" y="1724040"/>
            <a:ext cx="249480" cy="65160"/>
          </a:xfrm>
          <a:custGeom>
            <a:avLst/>
            <a:gdLst>
              <a:gd name="textAreaLeft" fmla="*/ 0 w 249480"/>
              <a:gd name="textAreaRight" fmla="*/ 249840 w 2494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57" h="41">
                <a:moveTo>
                  <a:pt x="0" y="18"/>
                </a:moveTo>
                <a:cubicBezTo>
                  <a:pt x="70" y="41"/>
                  <a:pt x="23" y="31"/>
                  <a:pt x="144" y="24"/>
                </a:cubicBezTo>
                <a:cubicBezTo>
                  <a:pt x="157" y="4"/>
                  <a:pt x="156" y="13"/>
                  <a:pt x="156" y="0"/>
                </a:cubicBezTo>
              </a:path>
            </a:pathLst>
          </a:custGeom>
          <a:noFill/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7524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1828800" y="4952880"/>
            <a:ext cx="3049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2133720" y="4952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5"/>
          <p:cNvSpPr/>
          <p:nvPr/>
        </p:nvSpPr>
        <p:spPr>
          <a:xfrm flipH="1">
            <a:off x="1600200" y="2209680"/>
            <a:ext cx="533520" cy="2362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600200" y="4495680"/>
            <a:ext cx="3962520" cy="76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133720" y="2209680"/>
            <a:ext cx="0" cy="23623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133720" y="2209680"/>
            <a:ext cx="3429000" cy="2286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Freeform 9"/>
          <p:cNvSpPr/>
          <p:nvPr/>
        </p:nvSpPr>
        <p:spPr>
          <a:xfrm>
            <a:off x="2152800" y="4317840"/>
            <a:ext cx="237960" cy="206640"/>
          </a:xfrm>
          <a:custGeom>
            <a:avLst/>
            <a:gdLst>
              <a:gd name="textAreaLeft" fmla="*/ 0 w 237960"/>
              <a:gd name="textAreaRight" fmla="*/ 238320 w 2379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0" h="130">
                <a:moveTo>
                  <a:pt x="0" y="34"/>
                </a:moveTo>
                <a:cubicBezTo>
                  <a:pt x="150" y="41"/>
                  <a:pt x="120" y="0"/>
                  <a:pt x="120" y="130"/>
                </a:cubicBezTo>
              </a:path>
            </a:pathLst>
          </a:custGeom>
          <a:noFill/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H="1" flipV="1">
            <a:off x="1752480" y="3962160"/>
            <a:ext cx="3733920" cy="533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Freeform 11"/>
          <p:cNvSpPr/>
          <p:nvPr/>
        </p:nvSpPr>
        <p:spPr>
          <a:xfrm>
            <a:off x="1676520" y="396252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8" h="186">
                <a:moveTo>
                  <a:pt x="114" y="0"/>
                </a:moveTo>
                <a:cubicBezTo>
                  <a:pt x="107" y="186"/>
                  <a:pt x="158" y="150"/>
                  <a:pt x="0" y="150"/>
                </a:cubicBezTo>
              </a:path>
            </a:pathLst>
          </a:custGeom>
          <a:noFill/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079720" y="312408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666880" y="3581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44792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334120" y="2286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С=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2952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9810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562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19051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137160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3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7493"/>
                </a:moveTo>
                <a:lnTo>
                  <a:pt x="8377" y="7493"/>
                </a:lnTo>
                <a:lnTo>
                  <a:pt x="8377" y="12828"/>
                </a:lnTo>
                <a:cubicBezTo>
                  <a:pt x="8377" y="13751"/>
                  <a:pt x="9178" y="14482"/>
                  <a:pt x="10214" y="14482"/>
                </a:cubicBezTo>
                <a:lnTo>
                  <a:pt x="11876" y="14482"/>
                </a:lnTo>
                <a:cubicBezTo>
                  <a:pt x="12912" y="14482"/>
                  <a:pt x="13712" y="13751"/>
                  <a:pt x="13712" y="12828"/>
                </a:cubicBezTo>
                <a:lnTo>
                  <a:pt x="13712" y="7493"/>
                </a:lnTo>
                <a:lnTo>
                  <a:pt x="11876" y="7493"/>
                </a:lnTo>
                <a:lnTo>
                  <a:pt x="15384" y="3985"/>
                </a:lnTo>
                <a:lnTo>
                  <a:pt x="19056" y="7493"/>
                </a:lnTo>
                <a:lnTo>
                  <a:pt x="17220" y="7493"/>
                </a:lnTo>
                <a:lnTo>
                  <a:pt x="17220" y="12828"/>
                </a:lnTo>
                <a:cubicBezTo>
                  <a:pt x="17220" y="15596"/>
                  <a:pt x="14644" y="18155"/>
                  <a:pt x="11876" y="18155"/>
                </a:cubicBezTo>
                <a:lnTo>
                  <a:pt x="10214" y="18155"/>
                </a:lnTo>
                <a:cubicBezTo>
                  <a:pt x="7446" y="18155"/>
                  <a:pt x="4869" y="15596"/>
                  <a:pt x="4869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676520" y="1523880"/>
            <a:ext cx="0" cy="441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676520" y="5943600"/>
            <a:ext cx="47242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1676520" y="1523880"/>
            <a:ext cx="4724280" cy="441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1676520" y="3657600"/>
            <a:ext cx="2286000" cy="2286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Freeform 9"/>
          <p:cNvSpPr/>
          <p:nvPr/>
        </p:nvSpPr>
        <p:spPr>
          <a:xfrm>
            <a:off x="5943600" y="5715000"/>
            <a:ext cx="162000" cy="247680"/>
          </a:xfrm>
          <a:custGeom>
            <a:avLst/>
            <a:gdLst>
              <a:gd name="textAreaLeft" fmla="*/ 0 w 162000"/>
              <a:gd name="textAreaRight" fmla="*/ 162000 w 162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2" h="156">
                <a:moveTo>
                  <a:pt x="42" y="0"/>
                </a:moveTo>
                <a:cubicBezTo>
                  <a:pt x="26" y="11"/>
                  <a:pt x="20" y="11"/>
                  <a:pt x="12" y="30"/>
                </a:cubicBezTo>
                <a:cubicBezTo>
                  <a:pt x="7" y="42"/>
                  <a:pt x="0" y="66"/>
                  <a:pt x="0" y="66"/>
                </a:cubicBezTo>
                <a:cubicBezTo>
                  <a:pt x="2" y="96"/>
                  <a:pt x="6" y="156"/>
                  <a:pt x="6" y="156"/>
                </a:cubicBezTo>
              </a:path>
            </a:pathLst>
          </a:custGeom>
          <a:noFill/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292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3733920" y="3886200"/>
            <a:ext cx="228600" cy="2286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3962520" y="3885840"/>
            <a:ext cx="228600" cy="2286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21932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6400800" y="57913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1676520" y="5638680"/>
            <a:ext cx="3808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2057400" y="5638680"/>
            <a:ext cx="0" cy="3049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3886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47242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5"/>
              <p:cNvSpPr txBox="1"/>
              <p:nvPr/>
            </p:nvSpPr>
            <p:spPr>
              <a:xfrm>
                <a:off x="5029200" y="3733920"/>
                <a:ext cx="5778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Text Box 26"/>
          <p:cNvSpPr/>
          <p:nvPr/>
        </p:nvSpPr>
        <p:spPr>
          <a:xfrm>
            <a:off x="1371600" y="1143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6095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С=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3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=?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219320" y="2514600"/>
            <a:ext cx="7315200" cy="2895480"/>
          </a:xfrm>
          <a:prstGeom prst="parallelogram">
            <a:avLst>
              <a:gd name="adj" fmla="val 63161"/>
            </a:avLst>
          </a:prstGeom>
          <a:solidFill>
            <a:srgbClr val="71bb9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3048120" y="2514600"/>
            <a:ext cx="0" cy="2895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3048120" y="5181480"/>
            <a:ext cx="2286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3276720" y="518148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971800" y="3352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048120" y="5410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2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=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С=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=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AutoShape 3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7493"/>
                </a:moveTo>
                <a:lnTo>
                  <a:pt x="8377" y="7493"/>
                </a:lnTo>
                <a:lnTo>
                  <a:pt x="8377" y="12828"/>
                </a:lnTo>
                <a:cubicBezTo>
                  <a:pt x="8377" y="13751"/>
                  <a:pt x="9178" y="14482"/>
                  <a:pt x="10214" y="14482"/>
                </a:cubicBezTo>
                <a:lnTo>
                  <a:pt x="11876" y="14482"/>
                </a:lnTo>
                <a:cubicBezTo>
                  <a:pt x="12912" y="14482"/>
                  <a:pt x="13712" y="13751"/>
                  <a:pt x="13712" y="12828"/>
                </a:cubicBezTo>
                <a:lnTo>
                  <a:pt x="13712" y="7493"/>
                </a:lnTo>
                <a:lnTo>
                  <a:pt x="11876" y="7493"/>
                </a:lnTo>
                <a:lnTo>
                  <a:pt x="15384" y="3985"/>
                </a:lnTo>
                <a:lnTo>
                  <a:pt x="19056" y="7493"/>
                </a:lnTo>
                <a:lnTo>
                  <a:pt x="17220" y="7493"/>
                </a:lnTo>
                <a:lnTo>
                  <a:pt x="17220" y="12828"/>
                </a:lnTo>
                <a:cubicBezTo>
                  <a:pt x="17220" y="15596"/>
                  <a:pt x="14644" y="18155"/>
                  <a:pt x="11876" y="18155"/>
                </a:cubicBezTo>
                <a:lnTo>
                  <a:pt x="10214" y="18155"/>
                </a:lnTo>
                <a:cubicBezTo>
                  <a:pt x="7446" y="18155"/>
                  <a:pt x="4869" y="15596"/>
                  <a:pt x="4869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AutoShape 7"/>
          <p:cNvSpPr/>
          <p:nvPr/>
        </p:nvSpPr>
        <p:spPr>
          <a:xfrm rot="16200000">
            <a:off x="2612880" y="1694880"/>
            <a:ext cx="2630520" cy="4795920"/>
          </a:xfrm>
          <a:prstGeom prst="diamond">
            <a:avLst/>
          </a:prstGeom>
          <a:solidFill>
            <a:srgbClr val="71bb9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1523880" y="4114800"/>
            <a:ext cx="48006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3962520" y="2743200"/>
            <a:ext cx="0" cy="26668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3962520" y="3962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4114800" y="39625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066680" y="37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7339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40080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36576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259092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49528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380988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3809880" y="3581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388620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3886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aeaea"/>
                </a:solidFill>
                <a:latin typeface="Arial"/>
              </a:rPr>
              <a:t>30.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=35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Н=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3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 rot="10800000">
            <a:off x="1905120" y="2514240"/>
            <a:ext cx="4038480" cy="2743200"/>
          </a:xfrm>
          <a:custGeom>
            <a:avLst/>
            <a:gdLst>
              <a:gd name="textAreaLeft" fmla="*/ 841320 w 4038480"/>
              <a:gd name="textAreaRight" fmla="*/ 3197160 w 4038480"/>
              <a:gd name="textAreaTop" fmla="*/ 571320 h 2743200"/>
              <a:gd name="textAreaBottom" fmla="*/ 217188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1bb9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2971800" y="2514600"/>
            <a:ext cx="0" cy="27432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2971800" y="5029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3200400" y="5029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523880" y="5105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243828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029200" y="2209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8672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2286000" y="3733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 flipH="1">
            <a:off x="5257440" y="36576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7432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5812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aeaea"/>
                </a:solidFill>
                <a:latin typeface="Arial"/>
              </a:rPr>
              <a:t>40.</a:t>
            </a:r>
            <a:r>
              <a:rPr b="0" lang="ru-RU" sz="35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4100" spc="-1" strike="noStrike">
                <a:solidFill>
                  <a:srgbClr val="eaeaea"/>
                </a:solidFill>
                <a:latin typeface="Arial"/>
              </a:rPr>
              <a:t>ВК=?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AutoShape 3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905120" y="3124080"/>
            <a:ext cx="6172200" cy="2210040"/>
          </a:xfrm>
          <a:prstGeom prst="parallelogram">
            <a:avLst>
              <a:gd name="adj" fmla="val 69820"/>
            </a:avLst>
          </a:prstGeom>
          <a:solidFill>
            <a:srgbClr val="71bb9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429000" y="3124080"/>
            <a:ext cx="0" cy="2210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505320" y="3124080"/>
            <a:ext cx="3352680" cy="17528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Freeform 9"/>
          <p:cNvSpPr/>
          <p:nvPr/>
        </p:nvSpPr>
        <p:spPr>
          <a:xfrm>
            <a:off x="3429000" y="5029200"/>
            <a:ext cx="339840" cy="333360"/>
          </a:xfrm>
          <a:custGeom>
            <a:avLst/>
            <a:gdLst>
              <a:gd name="textAreaLeft" fmla="*/ 0 w 339840"/>
              <a:gd name="textAreaRight" fmla="*/ 340200 w 3398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4" h="210">
                <a:moveTo>
                  <a:pt x="0" y="48"/>
                </a:moveTo>
                <a:cubicBezTo>
                  <a:pt x="214" y="56"/>
                  <a:pt x="162" y="0"/>
                  <a:pt x="162" y="21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6705720" y="4647960"/>
            <a:ext cx="759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6781680" y="4648320"/>
            <a:ext cx="1526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0574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447920" y="4952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523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30481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66294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80773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69343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38098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eaeaea"/>
                </a:solidFill>
                <a:latin typeface="Times New Roman"/>
              </a:rPr>
              <a:t>Геометрия – это наука, изучающая форму и взаимное расположение фигур.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eaeaea"/>
                </a:solidFill>
                <a:uFillTx/>
                <a:latin typeface="Times New Roman"/>
              </a:rPr>
              <a:t>Цель урока: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1714680"/>
            <a:ext cx="8183520" cy="48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spcBef>
                <a:spcPts val="799"/>
              </a:spcBef>
              <a:buClr>
                <a:srgbClr val="ffffcc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f7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Закрепить знания и умения по теме «Площадь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ffcc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Совершенствовать навыки решения зада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ffcc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Воспитывать уважительное отношение к мнениям одноклассник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ffffcc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Развивать навыки самостоятельности, самообуч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Из истории…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714240"/>
            <a:ext cx="607212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680" indent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поминания о площадях треугольников и четырехугольников можно отнести даже к Древнему Египту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85680" indent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ревнейшие древнеегипетские математические тексты относятся к началу II тысячелетия до н. э. Математика тогда использовалась в астрономии, мореплавании, землемерии, при строительстве зданий, плотин, каналов и военных укреплений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85680" indent="18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сновные сохранившиеся источники: папирус Ахмеса или папирус Ринда (84 математические задачи) и московский математический папирус (25 задач), оба из Среднего царства, времени расцвета древнеегипетской культуры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43760" y="100008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5929200" y="3857760"/>
            <a:ext cx="28576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Часть папируса Ахме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eaeaea"/>
                </a:solidFill>
                <a:latin typeface="Times New Roman"/>
              </a:rPr>
              <a:t>Из истории…</a:t>
            </a:r>
            <a:endParaRPr b="0" lang="en-US" sz="4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642960"/>
            <a:ext cx="5572080" cy="62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680" indent="181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Lucida Sans Unicode"/>
              </a:rPr>
              <a:t>Все задачи из папируса Ахмеса (записан ок. 1650 года до н. э.) имеют прикладной характер и связаны с практикой строительства, размежеванием земельных наделов и т. п. По преимуществу это задачи на нахождение площадей треугольника, четырёхугольников и круга, разнообразные действия с целыми числами и аликвотными дробями, пропорциональное деление, нахождение отношений, возведение в разные степени, определение среднего арифметического, арифметические прогрессии, решение уравнений первой и второй степени с одним неизвестны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85680" indent="18108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43760" y="928800"/>
            <a:ext cx="257148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500800" y="3786120"/>
            <a:ext cx="36432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80880" y="32004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080" bIns="46080" anchor="t">
            <a:noAutofit/>
          </a:bodyPr>
          <a:p>
            <a:pPr algn="ctr">
              <a:spcBef>
                <a:spcPts val="2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800" spc="-1" strike="noStrike">
                <a:solidFill>
                  <a:srgbClr val="eaeaea"/>
                </a:solidFill>
                <a:latin typeface="Times New Roman"/>
              </a:rPr>
              <a:t>Своя игра.</a:t>
            </a:r>
            <a:endParaRPr b="0" lang="en-US" sz="1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295280"/>
          <a:ext cx="8001000" cy="5100840"/>
        </p:xfrm>
        <a:graphic>
          <a:graphicData uri="http://schemas.openxmlformats.org/drawingml/2006/table">
            <a:tbl>
              <a:tblPr/>
              <a:tblGrid>
                <a:gridCol w="3962520"/>
                <a:gridCol w="914400"/>
                <a:gridCol w="1066680"/>
                <a:gridCol w="990720"/>
                <a:gridCol w="1066680"/>
              </a:tblGrid>
              <a:tr h="139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Формулы площадей</a:t>
                      </a:r>
                      <a:endParaRPr b="0" lang="en-US" sz="3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числение площадей треугольников</a:t>
                      </a:r>
                      <a:endParaRPr b="0" lang="en-US" sz="3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числение площадей четырехугольников</a:t>
                      </a:r>
                      <a:endParaRPr b="0" lang="en-US" sz="3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3"/>
          <p:cNvSpPr/>
          <p:nvPr/>
        </p:nvSpPr>
        <p:spPr>
          <a:xfrm>
            <a:off x="289548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eaeaea"/>
                </a:solidFill>
                <a:latin typeface="Times New Roman"/>
              </a:rPr>
              <a:t>10. </a:t>
            </a:r>
            <a:br>
              <a:rPr sz="6300"/>
            </a:br>
            <a:r>
              <a:rPr b="0" lang="ru-RU" sz="6300" spc="-1" strike="noStrike">
                <a:solidFill>
                  <a:srgbClr val="eaeaea"/>
                </a:solidFill>
                <a:latin typeface="Arial"/>
              </a:rPr>
              <a:t>Формула площади треугольника</a:t>
            </a:r>
            <a:r>
              <a:rPr b="0" lang="ru-RU" sz="63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6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AutoShape 3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3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7493"/>
                </a:moveTo>
                <a:lnTo>
                  <a:pt x="8377" y="7493"/>
                </a:lnTo>
                <a:lnTo>
                  <a:pt x="8377" y="12828"/>
                </a:lnTo>
                <a:cubicBezTo>
                  <a:pt x="8377" y="13751"/>
                  <a:pt x="9178" y="14482"/>
                  <a:pt x="10214" y="14482"/>
                </a:cubicBezTo>
                <a:lnTo>
                  <a:pt x="11876" y="14482"/>
                </a:lnTo>
                <a:cubicBezTo>
                  <a:pt x="12912" y="14482"/>
                  <a:pt x="13712" y="13751"/>
                  <a:pt x="13712" y="12828"/>
                </a:cubicBezTo>
                <a:lnTo>
                  <a:pt x="13712" y="7493"/>
                </a:lnTo>
                <a:lnTo>
                  <a:pt x="11876" y="7493"/>
                </a:lnTo>
                <a:lnTo>
                  <a:pt x="15384" y="3985"/>
                </a:lnTo>
                <a:lnTo>
                  <a:pt x="19056" y="7493"/>
                </a:lnTo>
                <a:lnTo>
                  <a:pt x="17220" y="7493"/>
                </a:lnTo>
                <a:lnTo>
                  <a:pt x="17220" y="12828"/>
                </a:lnTo>
                <a:cubicBezTo>
                  <a:pt x="17220" y="15596"/>
                  <a:pt x="14644" y="18155"/>
                  <a:pt x="11876" y="18155"/>
                </a:cubicBezTo>
                <a:lnTo>
                  <a:pt x="10214" y="18155"/>
                </a:lnTo>
                <a:cubicBezTo>
                  <a:pt x="7446" y="18155"/>
                  <a:pt x="4869" y="15596"/>
                  <a:pt x="4869" y="12828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-120600"/>
            <a:ext cx="708660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20.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Arial"/>
              </a:rPr>
              <a:t>Формула площади параллелограмма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LYA</dc:creator>
  <dc:description/>
  <dc:language>en-US</dc:language>
  <cp:lastModifiedBy>ILYA</cp:lastModifiedBy>
  <dcterms:modified xsi:type="dcterms:W3CDTF">2012-11-30T15:47:0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