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1B1-9512-4198-BA72-F036BFE7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CB4-2606-470D-9402-8927F246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B76-6039-4844-BAFE-C1E75A29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2B5-0EE5-4730-A80C-B7637689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EFF-1848-4069-AB89-AAEE2D9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22B-8D72-4B04-BD15-8D35D2FC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D15-C9C5-477E-B6C6-F631B566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42F-810A-4F9E-B475-0D72A46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5DC-A997-4303-B587-0D335C3C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0E1-809B-47DC-9F63-BFE603C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233-5BE6-495D-8CDB-64C3889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875-6A6E-4754-AA40-CEFA31CC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C716-297E-40D9-8E20-FFA10FF204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7080" y="1839600"/>
            <a:ext cx="5973840" cy="1547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рафический метод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шения системы уравн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4941360"/>
            <a:ext cx="438480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фический метод решения систе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к и графический метод решения уравне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краси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о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ненадеже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во-пер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том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что графики уравнений мы сумеем построить далеко не всегд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во-втор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даже если графики уравнений удалось постро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очки пересечения могут быть не таким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ошим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’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в специально подобранных примерах учебника, а  то и вовсе могут оказаться за пределами чертеж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713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588360" y="260280"/>
            <a:ext cx="1218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2               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X + Y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X - Y = 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6372360" y="333360"/>
            <a:ext cx="228600" cy="800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468360" y="1341360"/>
          <a:ext cx="4676760" cy="38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467676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10"/>
          <p:cNvSpPr/>
          <p:nvPr/>
        </p:nvSpPr>
        <p:spPr>
          <a:xfrm>
            <a:off x="1130400" y="466560"/>
            <a:ext cx="62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ешите систему уравн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292720" y="580536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0;-2), (?;?), (?;?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6"/>
          <p:cNvSpPr/>
          <p:nvPr/>
        </p:nvSpPr>
        <p:spPr>
          <a:xfrm>
            <a:off x="971640" y="1628640"/>
            <a:ext cx="732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1)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уравнениях системы выразить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ерез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так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тобы получить функции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2)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строить графики этих функций в одной системе координат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Найти координаты точек пересечения граф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4)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ыписать в ответ пары чисел, которые служат координатами точек пересечения граф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2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3"/>
          <p:cNvSpPr/>
          <p:nvPr/>
        </p:nvSpPr>
        <p:spPr>
          <a:xfrm flipV="1">
            <a:off x="4572000" y="0"/>
            <a:ext cx="0" cy="645336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250920" y="189000"/>
            <a:ext cx="4681440" cy="46800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676520" y="533520"/>
            <a:ext cx="5759280" cy="5759280"/>
          </a:xfrm>
          <a:prstGeom prst="ellipse">
            <a:avLst/>
          </a:prstGeom>
          <a:noFill/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957480" y="3598920"/>
            <a:ext cx="1800" cy="14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4317840" y="3238560"/>
            <a:ext cx="1800" cy="1440"/>
          </a:xfrm>
          <a:prstGeom prst="ellips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1332000" y="3068640"/>
            <a:ext cx="503280" cy="406440"/>
          </a:xfrm>
          <a:prstGeom prst="rect">
            <a:avLst/>
          </a:prstGeom>
          <a:noFill/>
          <a:ln w="9360">
            <a:solidFill>
              <a:srgbClr val="ffffff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7380360" y="3068640"/>
            <a:ext cx="193680" cy="406440"/>
          </a:xfrm>
          <a:prstGeom prst="rect">
            <a:avLst/>
          </a:prstGeom>
          <a:noFill/>
          <a:ln w="9360">
            <a:solidFill>
              <a:srgbClr val="ffffff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8602200" y="30686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42836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1258920" y="260280"/>
            <a:ext cx="72262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графического решения систем уравнения существует 4 шага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572000" y="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1"/>
          <p:cNvSpPr/>
          <p:nvPr/>
        </p:nvSpPr>
        <p:spPr>
          <a:xfrm>
            <a:off x="5435640" y="2997360"/>
            <a:ext cx="1728720" cy="172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ример</a:t>
            </a: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 1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211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ить систему уравнений: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x</a:t>
            </a:r>
            <a:r>
              <a:rPr b="0" lang="en-US" sz="2400" spc="-1" strike="noStrike" baseline="30000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+ y</a:t>
            </a:r>
            <a:r>
              <a:rPr b="0" lang="en-US" sz="2400" spc="-1" strike="noStrike" baseline="30000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=16,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          y – x =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роим графи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авнения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x</a:t>
            </a:r>
            <a:r>
              <a:rPr b="0" lang="ru-RU" sz="2400" spc="-1" strike="noStrike" baseline="30000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+ y</a:t>
            </a:r>
            <a:r>
              <a:rPr b="0" lang="ru-RU" sz="2400" spc="-1" strike="noStrike" baseline="30000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=16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окруж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центром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е координат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усом 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строим графи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авнения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y –x =</a:t>
            </a: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пряма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оходя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з точки (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и (-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476360" y="1557360"/>
            <a:ext cx="71280" cy="57780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 flipV="1">
            <a:off x="6300720" y="1413000"/>
            <a:ext cx="0" cy="4176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284720" y="386064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4427640" y="1773360"/>
            <a:ext cx="316872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012000" y="1268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098920" y="3500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10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60109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7018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151960" y="38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5943960" y="465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ример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продолжение)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392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3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кружность и прям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екаются в точка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я   по  построен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ометрической моде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оч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меет координат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-4;0)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чк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координаты  (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Проверка показыва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амом деле пары (-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)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4)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вляются решен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ого уравнения систе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значи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 решения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ы  уравнен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7"/>
          <p:cNvSpPr/>
          <p:nvPr/>
        </p:nvSpPr>
        <p:spPr>
          <a:xfrm>
            <a:off x="5435640" y="2997360"/>
            <a:ext cx="1728720" cy="172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8"/>
          <p:cNvSpPr/>
          <p:nvPr/>
        </p:nvSpPr>
        <p:spPr>
          <a:xfrm flipV="1">
            <a:off x="6300720" y="1413000"/>
            <a:ext cx="0" cy="4176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9"/>
          <p:cNvSpPr/>
          <p:nvPr/>
        </p:nvSpPr>
        <p:spPr>
          <a:xfrm>
            <a:off x="4284720" y="386064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4427640" y="1773360"/>
            <a:ext cx="316872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012000" y="1268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8098920" y="3500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010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29964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018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151960" y="38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5943960" y="465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324000" y="5892840"/>
            <a:ext cx="8569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Следовательно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заданная система уравнений имеет два решения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Tahoma"/>
              </a:rPr>
              <a:t>(-4</a:t>
            </a: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;0) </a:t>
            </a:r>
            <a:r>
              <a:rPr b="1" lang="ru-RU" sz="1800" spc="-1" strike="noStrike">
                <a:solidFill>
                  <a:srgbClr val="336699"/>
                </a:solidFill>
                <a:latin typeface="Tahoma"/>
              </a:rPr>
              <a:t>и</a:t>
            </a: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 (0;</a:t>
            </a:r>
            <a:r>
              <a:rPr b="1" lang="ru-RU" sz="1800" spc="-1" strike="noStrike">
                <a:solidFill>
                  <a:srgbClr val="336699"/>
                </a:solidFill>
                <a:latin typeface="Tahoma"/>
              </a:rPr>
              <a:t>4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479840" y="6585120"/>
            <a:ext cx="25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4716360" y="638172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(-4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) и (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149440" y="35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6015240" y="2637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Tahoma"/>
              </a:rPr>
              <a:t>Пример 2</a:t>
            </a: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ить систему уравнений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– y =0,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xy =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1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ереписав первое уравне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ы в виде 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y =2x</a:t>
            </a:r>
            <a:r>
              <a:rPr b="0" lang="en-US" sz="2000" spc="-1" strike="noStrike" baseline="30000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ходим к       выводу: графиком уравнения является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парабол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2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исав второе уравне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ы в виде 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y =2/x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ходим к выв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рафико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авнения является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гипербол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3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бола и гипербола пересекаются в точк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Проверка показывает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что, действительно,  пара (1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;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2) являе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Решением обоих уравнений системы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а значит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и решением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уравнений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Следовательно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заданная система уравнений имеет одно решение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(1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;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2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 (1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2)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356000" y="126828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1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5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6600"/>
                </a:solidFill>
                <a:latin typeface="Tahoma"/>
              </a:rPr>
              <a:t>Помните что</a:t>
            </a:r>
            <a:r>
              <a:rPr b="0" lang="en-US" sz="4100" spc="-1" strike="noStrike">
                <a:solidFill>
                  <a:srgbClr val="ff6600"/>
                </a:solidFill>
                <a:latin typeface="Tahoma"/>
              </a:rPr>
              <a:t>,</a:t>
            </a:r>
            <a:r>
              <a:rPr b="0" lang="en-US" sz="41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ff6600"/>
                </a:solidFill>
                <a:latin typeface="Tahoma"/>
              </a:rPr>
              <a:t>…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1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1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Если</a:t>
            </a:r>
            <a:r>
              <a:rPr b="0" lang="en-US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функция имеет вид </a:t>
            </a:r>
            <a:r>
              <a:rPr b="0" lang="en-US" sz="2300" spc="-1" strike="noStrike">
                <a:solidFill>
                  <a:srgbClr val="ff6600"/>
                </a:solidFill>
                <a:latin typeface="Tahoma"/>
              </a:rPr>
              <a:t>y=x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о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ужно не забывать рисовать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торую половину графика</a:t>
            </a:r>
            <a:r>
              <a:rPr b="0" lang="en-US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X&lt;0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2.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Если дано уравнение </a:t>
            </a:r>
            <a:r>
              <a:rPr b="0" lang="ru-RU" sz="2300" spc="-1" strike="noStrike">
                <a:solidFill>
                  <a:srgbClr val="ff6600"/>
                </a:solidFill>
                <a:latin typeface="Tahoma"/>
              </a:rPr>
              <a:t>окружност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о окружность  не всегда будет с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ентром (0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6699"/>
                </a:solidFill>
                <a:latin typeface="Tahoma"/>
              </a:rPr>
              <a:t>3</a:t>
            </a: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. </a:t>
            </a:r>
            <a:r>
              <a:rPr b="0" lang="ru-RU" sz="2300" spc="-1" strike="noStrike">
                <a:solidFill>
                  <a:srgbClr val="ff6600"/>
                </a:solidFill>
                <a:latin typeface="Tahoma"/>
              </a:rPr>
              <a:t>Ветви параболы</a:t>
            </a: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ужно направлять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6600"/>
                </a:solidFill>
                <a:latin typeface="Tahoma"/>
              </a:rPr>
              <a:t>вниз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при отрицательном старшем коэффициент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4"/>
          <p:cNvSpPr/>
          <p:nvPr/>
        </p:nvSpPr>
        <p:spPr>
          <a:xfrm flipV="1">
            <a:off x="6804000" y="0"/>
            <a:ext cx="0" cy="2060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5580000" y="112536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6804000" y="259920"/>
            <a:ext cx="936720" cy="865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5724000" y="259920"/>
            <a:ext cx="1079640" cy="865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5651640" y="342900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6732720" y="220464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732720" y="2637000"/>
            <a:ext cx="792000" cy="79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796000" y="5229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2"/>
          <p:cNvSpPr/>
          <p:nvPr/>
        </p:nvSpPr>
        <p:spPr>
          <a:xfrm flipV="1">
            <a:off x="6948360" y="4292280"/>
            <a:ext cx="0" cy="20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6443640" y="5229360"/>
            <a:ext cx="1009800" cy="792000"/>
          </a:xfrm>
          <a:custGeom>
            <a:avLst/>
            <a:gdLst/>
            <a:ahLst/>
            <a:rect l="l" t="t" r="r" b="b"/>
            <a:pathLst>
              <a:path w="590" h="476">
                <a:moveTo>
                  <a:pt x="0" y="431"/>
                </a:moveTo>
                <a:cubicBezTo>
                  <a:pt x="57" y="280"/>
                  <a:pt x="114" y="129"/>
                  <a:pt x="182" y="68"/>
                </a:cubicBezTo>
                <a:cubicBezTo>
                  <a:pt x="250" y="7"/>
                  <a:pt x="341" y="0"/>
                  <a:pt x="409" y="68"/>
                </a:cubicBezTo>
                <a:cubicBezTo>
                  <a:pt x="477" y="136"/>
                  <a:pt x="560" y="416"/>
                  <a:pt x="590" y="476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7813080" y="10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515640" y="105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6519240" y="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7813080" y="3429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644256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6446520" y="2133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781308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6658560" y="486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6662160" y="4221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7093080" y="2997360"/>
            <a:ext cx="71280" cy="727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70930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4"/>
          <p:cNvSpPr/>
          <p:nvPr/>
        </p:nvSpPr>
        <p:spPr>
          <a:xfrm flipH="1">
            <a:off x="673236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69472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6495120" y="28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1042920" y="3429000"/>
            <a:ext cx="785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4572000" y="189000"/>
            <a:ext cx="0" cy="630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rc 8"/>
          <p:cNvSpPr/>
          <p:nvPr/>
        </p:nvSpPr>
        <p:spPr>
          <a:xfrm>
            <a:off x="539640" y="3645000"/>
            <a:ext cx="3888000" cy="259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rc 11"/>
          <p:cNvSpPr/>
          <p:nvPr/>
        </p:nvSpPr>
        <p:spPr>
          <a:xfrm flipH="1" flipV="1">
            <a:off x="4716360" y="619920"/>
            <a:ext cx="4176720" cy="259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419640" y="333360"/>
            <a:ext cx="2376360" cy="3227400"/>
          </a:xfrm>
          <a:custGeom>
            <a:avLst/>
            <a:gdLst/>
            <a:ahLst/>
            <a:rect l="l" t="t" r="r" b="b"/>
            <a:pathLst>
              <a:path w="1542" h="2170">
                <a:moveTo>
                  <a:pt x="0" y="91"/>
                </a:moveTo>
                <a:cubicBezTo>
                  <a:pt x="192" y="828"/>
                  <a:pt x="385" y="1565"/>
                  <a:pt x="544" y="1860"/>
                </a:cubicBezTo>
                <a:cubicBezTo>
                  <a:pt x="703" y="2155"/>
                  <a:pt x="786" y="2170"/>
                  <a:pt x="952" y="1860"/>
                </a:cubicBezTo>
                <a:cubicBezTo>
                  <a:pt x="1118" y="1550"/>
                  <a:pt x="1444" y="310"/>
                  <a:pt x="1542" y="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5292720" y="34290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4572000" y="1905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428472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514728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4284720" y="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8673840" y="3429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4334400" y="337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32"/>
          <p:cNvSpPr/>
          <p:nvPr/>
        </p:nvSpPr>
        <p:spPr>
          <a:xfrm>
            <a:off x="61128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5292720" y="198900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34"/>
          <p:cNvSpPr/>
          <p:nvPr/>
        </p:nvSpPr>
        <p:spPr>
          <a:xfrm flipH="1">
            <a:off x="4572000" y="1916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5365080" y="17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6"/>
          <p:cNvSpPr/>
          <p:nvPr/>
        </p:nvSpPr>
        <p:spPr>
          <a:xfrm rot="975600">
            <a:off x="7154640" y="264780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Y=2/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7"/>
          <p:cNvSpPr/>
          <p:nvPr/>
        </p:nvSpPr>
        <p:spPr>
          <a:xfrm rot="4465200">
            <a:off x="3218400" y="96444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ahoma"/>
              </a:rPr>
              <a:t>Y=2X</a:t>
            </a:r>
            <a:r>
              <a:rPr b="1" lang="en-US" sz="1800" spc="-1" strike="noStrike" baseline="30000">
                <a:solidFill>
                  <a:srgbClr val="00cc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26:46Z</dcterms:created>
  <dc:creator>Valeriy</dc:creator>
  <dc:description/>
  <dc:language>en-US</dc:language>
  <cp:lastModifiedBy>ILYA</cp:lastModifiedBy>
  <dcterms:modified xsi:type="dcterms:W3CDTF">2012-11-30T15:33:14Z</dcterms:modified>
  <cp:revision>36</cp:revision>
  <dc:subject/>
  <dc:title>Графический метод решения уравнений</dc:title>
</cp:coreProperties>
</file>