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E85-3A60-445F-A80E-6B257007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F79-E291-42C4-99EB-4F5600A1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E97-376A-4E66-9423-022DF768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E39-71A3-49A5-B049-B2CAB419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6775-A07D-4386-A4B7-3FC68EB6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941C-7EED-45F1-B974-E2649E3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672-D97F-4D65-B9A3-E9D7F66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AFE1-559F-40C4-AE13-67A2C060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134E-08BC-4A38-991B-14E7681D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A66-9357-4528-A9A2-B6B59F6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3A2B-45F7-45F1-B626-E213B85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F81-6FC9-4319-9E85-3928B2B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E42-1D81-4A57-85D7-F019459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7E7-EEFD-431B-8D05-63E5CAE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231A-1906-461E-BC6C-6D523A0E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7DD-24B1-4CD5-9F47-6F83DD32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8CD-7FFD-4DA8-A5F1-D62BF22F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4C8-E2CA-4646-ACF2-12FB1337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052-21BC-4DAD-A12D-6949299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A05-8E56-4406-BE9F-E57843EC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D60-0929-46BC-AAFD-9804BA36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E46-6814-4C44-8545-A4A1F25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0AE-FE8C-4EFB-ABD8-E909BC4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1CF-757B-4533-A423-12C54AD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B29-EDE6-47B8-A37B-632EC58DAE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EA1-9EC3-4A6E-B980-0CAA602A481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404640"/>
            <a:ext cx="482436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истемы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уравнен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7921440" cy="259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a8456"/>
                </a:solidFill>
                <a:latin typeface="Verdana"/>
              </a:rPr>
              <a:t>Метод сложения</a:t>
            </a:r>
            <a:r>
              <a:rPr b="1" lang="en-US" sz="2400" spc="-1" strike="noStrike">
                <a:solidFill>
                  <a:srgbClr val="aa845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6800" y="304560"/>
            <a:ext cx="6643440" cy="105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c85e"/>
                </a:solidFill>
                <a:latin typeface="Arial"/>
              </a:rPr>
              <a:t>АЛГОРИТМ МЕТОДА СЛОЖ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ОБРАЗОВАТЬ  КОЭФФИЦИЕНТЫ ТАК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ЧТОБЫ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эффициенты при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ли при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и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ТИВОПОЛОЖНЫМИ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ислами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+Y=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Y=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ОЖИТЬ УРАВНЕНИ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2X+4X+Y-Y=3+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ШИТЬ УРАВНЕНИЕ С ОДНОЙ ПЕРЕМЕННОЙ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        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+4X=1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6X=12 |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=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900000" y="2349360"/>
            <a:ext cx="144720" cy="64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88"/>
                </a:lnTo>
                <a:cubicBezTo>
                  <a:pt x="10800" y="10988"/>
                  <a:pt x="5400" y="11888"/>
                  <a:pt x="0" y="11888"/>
                </a:cubicBezTo>
                <a:cubicBezTo>
                  <a:pt x="5400" y="11888"/>
                  <a:pt x="10800" y="12788"/>
                  <a:pt x="10800" y="136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c85e"/>
                </a:solidFill>
                <a:latin typeface="Arial"/>
              </a:rPr>
              <a:t>АЛГОРИТМ МЕТОДА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ec85e"/>
                </a:solidFill>
                <a:latin typeface="Arial"/>
              </a:rPr>
              <a:t>СЛОЖЕНИЯ </a:t>
            </a:r>
            <a:r>
              <a:rPr b="0" lang="ru-RU" sz="2000" spc="-1" strike="noStrike">
                <a:solidFill>
                  <a:srgbClr val="eec85e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ХОДИМ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ПОДСТАВЛЯЯ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ОДНО ИЗ ПЕРВОНАЧАЛЬНЫХ  УРАВНЕНИЙ: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.к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=2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X +Y=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•2+Y=3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+Y=3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Y=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.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ИСАТЬ В ОТВЕТ ЧЕМУ РАВНЯЮТСЯ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ВЕТ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=2,Y=-1.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16898 L 0.01111 -0.50232 E">
                                      <p:cBhvr>
                                        <p:cTn id="7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33333 L 2.77778E-006 -0.66666 E">
                                      <p:cBhvr>
                                        <p:cTn id="7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38426 L 0.00139 -0.71759 E">
                                      <p:cBhvr>
                                        <p:cTn id="7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45856 L -0.0276 -0.79189 E">
                                      <p:cBhvr>
                                        <p:cTn id="82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5 -0.55394 L -0.01355 -0.88727 E">
                                      <p:cBhvr>
                                        <p:cTn id="8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67084 L -0.0125 -1.00417 E">
                                      <p:cBhvr>
                                        <p:cTn id="9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72408 L 0.05469 -1.05741 E">
                                      <p:cBhvr>
                                        <p:cTn id="94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eec85e"/>
                </a:solidFill>
                <a:latin typeface="Arial"/>
              </a:rPr>
              <a:t>ПРЕИМУЩЕСТВА И НЕДОСТАТКИ МЕТ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072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Verdana"/>
              </a:rPr>
              <a:t>ПРЕИМУЩЕСТВА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1.  Систему уравнений легче решать методом сложения, когда коэффициенты при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и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Y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сразу являются противоположными числами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2.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етод позволяет быстро исключить одну из неизвестных переменных и найти другу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Verdana"/>
              </a:rPr>
              <a:t>НЕДОСТАТКИ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етод сложения невозможно применить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когда у переменных в двух уравнениях разны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показатели степени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.                                            </a:t>
            </a:r>
            <a:r>
              <a:rPr b="1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3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3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7:47:26Z</dcterms:created>
  <dc:creator>07b</dc:creator>
  <dc:description/>
  <dc:language>en-US</dc:language>
  <cp:lastModifiedBy>ILYA</cp:lastModifiedBy>
  <dcterms:modified xsi:type="dcterms:W3CDTF">2012-11-30T15:35:28Z</dcterms:modified>
  <cp:revision>31</cp:revision>
  <dc:subject/>
  <dc:title>Система уравнений</dc:title>
</cp:coreProperties>
</file>