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C6B-F82E-4EFC-BA03-5F661A80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481-641B-44A6-BD43-512D15A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73F-FD82-48BA-BD44-0AEE370B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E8D-C660-4064-9B4F-DBC6A5FD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0705-A12E-485F-9388-F37918CC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19F3-4878-4E40-85A9-FCD6FE8D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2E0B-E27E-4A0D-8A42-61AF825A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4710-8158-4336-A7AD-69E449A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A002-DD10-4BDD-906B-02D8FCF2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37FE-7FDA-4456-98F6-2A519D6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0B5-DE75-4725-8A15-1882095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6BB-987A-4E32-B6BB-E7224F05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4F0-5C55-4254-A421-A5B8E60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5BA-AFF5-490D-9E33-4059856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E8B8-913F-4E94-AC42-A45BA786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BB7E-2872-4420-9EC9-A3F13137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8E32-802A-4EAD-9C53-EAC247E5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636-F4D8-480B-BF21-883F4580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7BB-3CD3-4A82-B4D4-25CD692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F6C-3E8D-41D1-9F8A-536C5C62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95C-A9CE-4648-A4AC-F8E2C91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0B0-5395-4E5A-BCB2-F629F71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F42-A44B-43FC-AAEF-6A5B4F5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B80-59D7-4CBE-B177-EB69E5B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0D1F-49CF-4F17-866A-C732418A0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2B7-DE6D-49EF-89BB-24EC1AF20E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Из истории решения систем уравнений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Карл Гаусс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Гаусс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Gauss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Карл Фридрих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30.04.1777, Брауншвейг, – 23.02.1855, Геттинген), немецкий математик, внесший фундаментальный вклад также в астрономию и геодез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усс дает здесь обстоятельную теорию квадратичных вычетов, первое доказательство квадратичного закона взаимности — одной из центральных теорем теории чис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6" descr="gauss"/>
          <p:cNvPicPr/>
          <p:nvPr/>
        </p:nvPicPr>
        <p:blipFill>
          <a:blip r:embed="rId1"/>
          <a:stretch/>
        </p:blipFill>
        <p:spPr>
          <a:xfrm>
            <a:off x="712800" y="1773360"/>
            <a:ext cx="3225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Леонард Эйлер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Эйлер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(Euler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Леонард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[4(15).04.1707, Базель, Швейцария, – 7(18).09.1783, Петербург], математик, механик и физ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лавным делом Эйлера как математика явилась разработка математического анализа. Он заложил основы нескольких математических дисцип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6" descr="euler"/>
          <p:cNvPicPr/>
          <p:nvPr/>
        </p:nvPicPr>
        <p:blipFill>
          <a:blip r:embed="rId1"/>
          <a:stretch/>
        </p:blipFill>
        <p:spPr>
          <a:xfrm>
            <a:off x="5292720" y="1700280"/>
            <a:ext cx="309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Monotype Corsiva"/>
              </a:rPr>
              <a:t>Из истории решения систем уравнений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здавна применялось исключение неизвестных из линейных уравнений. В XVII - XVIII в.в. приемы исключения разрабатывали </a:t>
            </a:r>
            <a:r>
              <a:rPr b="0" lang="ru-RU" sz="1800" spc="-1" strike="noStrike">
                <a:solidFill>
                  <a:srgbClr val="99ff99"/>
                </a:solidFill>
                <a:latin typeface="Comic Sans MS"/>
              </a:rPr>
              <a:t>Ферма, Ньютон, Лейбниц, Эйлер, Безу,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Лагранж В современной записи система двух линейных уравнений с двумя неизвестными имеет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3284640"/>
            <a:ext cx="432000" cy="863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411280" y="3357720"/>
            <a:ext cx="14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429280" y="3716280"/>
            <a:ext cx="126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04160" y="450792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шение этой системы выражается форму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1835280" y="530064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1477440" y="508464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859400" y="4941720"/>
            <a:ext cx="103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1860120" y="5300640"/>
            <a:ext cx="105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3132000" y="51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378000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4236480" y="5300640"/>
            <a:ext cx="105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4211640" y="530064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4235760" y="49417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Решение задачи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йти два натуральных числа, зная, что их сумма = 20, а сумма их квадратов 208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оставим систему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124000" y="2852640"/>
            <a:ext cx="71640" cy="843120"/>
          </a:xfrm>
          <a:custGeom>
            <a:avLst/>
            <a:gdLst>
              <a:gd name="textAreaLeft" fmla="*/ 45720 w 71640"/>
              <a:gd name="textAreaRight" fmla="*/ 72000 w 71640"/>
              <a:gd name="textAreaTop" fmla="*/ 21960 h 843120"/>
              <a:gd name="textAreaBottom" fmla="*/ 821160 h 8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340000" y="2852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=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269440" y="32846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² + y²=2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-396720" y="371628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о решал Диофант, выбирая в качестве неизвестного половину разности искомых чисел, т.е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2050920" y="479736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196720" y="48690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,5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- y)=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197080" y="53006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5(x +y)=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3924360" y="5013360"/>
            <a:ext cx="792000" cy="485640"/>
          </a:xfrm>
          <a:prstGeom prst="rightArrow">
            <a:avLst>
              <a:gd name="adj1" fmla="val 50000"/>
              <a:gd name="adj2" fmla="val 4077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5077440" y="4797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10 -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5077080" y="52293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10 +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Решение задачи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= (z + 10)2 + (10 – z)2 = 2z2 + 200, а по условию =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z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+ 200 = 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z = ± 2 z = - 2- не уд. услов.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этому, если z = 2 x = 12, а у =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Monotype Corsiva"/>
              </a:rPr>
              <a:t>Решение систем симметрических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Monotype Corsiva"/>
              </a:rPr>
              <a:t>уравн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уществует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универсальный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метод решения: вводится подста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3492360" y="1844640"/>
            <a:ext cx="432000" cy="7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3850560" y="1916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² + xy + y² 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851280" y="227664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xy +y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3635280" y="3789360"/>
            <a:ext cx="144720" cy="843120"/>
          </a:xfrm>
          <a:custGeom>
            <a:avLst/>
            <a:gdLst>
              <a:gd name="textAreaLeft" fmla="*/ 92520 w 144720"/>
              <a:gd name="textAreaRight" fmla="*/ 145080 w 144720"/>
              <a:gd name="textAreaTop" fmla="*/ 21960 h 843120"/>
              <a:gd name="textAreaBottom" fmla="*/ 821160 h 8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3780000" y="378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780360" y="42210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y =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900000" y="4630680"/>
            <a:ext cx="8244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еобразуем первое уравнение системы, прибавив к обеим частям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2627280" y="522828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ху + ху + у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4 +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2ху + у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4 +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х + у)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4 +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олучим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843280" y="213372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986560" y="213372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 + y)² = 4 + x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058560" y="2565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+ xy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55640" y="3212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именим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универсальную подстановк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125892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1404000" y="3789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²= 4 +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403640" y="414972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 + v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3708360" y="3789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8"/>
          <p:cNvSpPr/>
          <p:nvPr/>
        </p:nvSpPr>
        <p:spPr>
          <a:xfrm>
            <a:off x="255600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3926160" y="37893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1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3926160" y="42210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1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5003640" y="378936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5150520" y="38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2=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5150160" y="42926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1332000" y="5013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1476360" y="50846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1477440" y="55166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7"/>
          <p:cNvSpPr/>
          <p:nvPr/>
        </p:nvSpPr>
        <p:spPr>
          <a:xfrm>
            <a:off x="3708360" y="5084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8"/>
          <p:cNvSpPr/>
          <p:nvPr/>
        </p:nvSpPr>
        <p:spPr>
          <a:xfrm>
            <a:off x="2629080" y="5300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9"/>
          <p:cNvSpPr/>
          <p:nvPr/>
        </p:nvSpPr>
        <p:spPr>
          <a:xfrm>
            <a:off x="3851280" y="51577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= 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0"/>
          <p:cNvSpPr/>
          <p:nvPr/>
        </p:nvSpPr>
        <p:spPr>
          <a:xfrm>
            <a:off x="3852000" y="55166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1"/>
          <p:cNvSpPr/>
          <p:nvPr/>
        </p:nvSpPr>
        <p:spPr>
          <a:xfrm>
            <a:off x="5076720" y="508464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5148360" y="51577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= 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5149080" y="55897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4"/>
          <p:cNvSpPr/>
          <p:nvPr/>
        </p:nvSpPr>
        <p:spPr>
          <a:xfrm>
            <a:off x="6300720" y="501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истема не имеет ре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5937480" y="60930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вет: (2;0) ; (0;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Метод Крамер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берем пример по методу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Крамер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08000" y="24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052720" y="29242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x – 5y =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124000" y="24922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3y =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1908000" y="3860640"/>
            <a:ext cx="287640" cy="266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212508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348000" y="3645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2413080" y="3645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2557440" y="3573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2414880" y="3933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327780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3421080" y="378936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10-36=46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7"/>
          <p:cNvSpPr/>
          <p:nvPr/>
        </p:nvSpPr>
        <p:spPr>
          <a:xfrm>
            <a:off x="1835280" y="4581360"/>
            <a:ext cx="287280" cy="266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2122560" y="4581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2411280" y="4510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3346560" y="4510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>
            <a:off x="2482920" y="4437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2411280" y="479736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  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5796000" y="3789360"/>
            <a:ext cx="287280" cy="266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3279240" y="45813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-50-42=-92≠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205092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6086160" y="38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>
            <a:off x="702000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637236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6085800" y="3645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302160" y="3573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6300720" y="386064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  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7020000" y="371628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28-120=-92≠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2196360" y="54450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-92/-46=2,   y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6121440" y="55944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Отв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=2; y=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Monotype Corsiva"/>
              </a:rPr>
              <a:t>Выдающиеся математи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Monotype Corsiva"/>
              </a:rPr>
              <a:t>Пьер Фер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Ферма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Fermat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Пьер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17.08.1601, Бомон-де-Ломань, – 12.01.1665, Кастр), французский математ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Ферма является одним из создателей теории чисел, где с его именем связаны две знаменитые теоремы: великая теорема Ферма и малая теорема Ферма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воими работами Ферма оказал большое влияние на дальнейшее развитие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атемат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7" descr="fermat"/>
          <p:cNvPicPr/>
          <p:nvPr/>
        </p:nvPicPr>
        <p:blipFill>
          <a:blip r:embed="rId1"/>
          <a:stretch/>
        </p:blipFill>
        <p:spPr>
          <a:xfrm>
            <a:off x="5292720" y="1989000"/>
            <a:ext cx="309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Жозеф Лагранж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Лагранж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Lagrange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Жозеф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Луи (25.01.1736, Турин, – 10.04.1813, Париж), французский математик и механик, член Парижской 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гранжу принадлежат также выдающиеся исследования по различным вопросам математического анализа, теории чисел, алгебр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7" descr="lagrange"/>
          <p:cNvPicPr/>
          <p:nvPr/>
        </p:nvPicPr>
        <p:blipFill>
          <a:blip r:embed="rId1"/>
          <a:stretch/>
        </p:blipFill>
        <p:spPr>
          <a:xfrm>
            <a:off x="755640" y="2060640"/>
            <a:ext cx="324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3:31:44Z</dcterms:created>
  <dc:creator>316</dc:creator>
  <dc:description/>
  <dc:language>en-US</dc:language>
  <cp:lastModifiedBy>ILYA</cp:lastModifiedBy>
  <dcterms:modified xsi:type="dcterms:W3CDTF">2012-11-30T15:33:42Z</dcterms:modified>
  <cp:revision>9</cp:revision>
  <dc:subject/>
  <dc:title>Из истории решения систем уравнений.</dc:title>
</cp:coreProperties>
</file>