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02E3-DF62-4EA9-9B54-6E4DB2C3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8841-3436-4F27-9CAE-D75A9C58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1213-9F20-4833-A5A3-109E6090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927C-E3DC-4EEE-837A-9534F3B5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4EBD-6157-4B96-9B99-5B9349C1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A10C-4BCB-4937-BBA0-B6A09161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F44B-5B08-48C1-9CAB-E915D8E7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B914-0571-4BF2-B206-E12585D5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5BE5-0FC4-4F83-A9FB-B8DC1D26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D259-CA00-4041-A7BB-A47B1C03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BF0D-41AE-4E29-935C-32CA6BE6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6AAE-6D2C-46B6-9353-5589E8CE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C23F-5E50-42D1-BC37-A4B188B1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059B-8CA3-4AE4-9F6A-F1E14290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954A-E59C-4D70-B7AF-B6495AF9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9D86-1AC0-47E6-B5A1-D4F614D4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6680-0419-4098-9CC7-0806EC0B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0610-207B-4F8E-A59F-81E3D543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5091-AF36-4995-9858-E774D8BE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897E-A7D1-474A-B6B7-CD3CD1C5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479C-637D-4955-8F04-981F6B56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CE98-2119-4DF5-8928-ACA2D164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6533-E985-47ED-BD09-55726DDA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B729-06C2-4FB7-AA3D-3D88E556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BDE6-DAA8-45F7-9FEE-63182F720E8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A486-7CDA-4C12-B62E-BE994BE06F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 решения систем уравне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124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подстан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33cc"/>
                </a:solidFill>
                <a:latin typeface="Arial"/>
              </a:rPr>
              <a:t>Краткая характеристика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 для решения систем  любых двух уравнений с двумя переменны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ще используется учащими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гок и понятен в примене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сегда применим (при решении симметрических систем уравнени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ый метод не подходит для решения систем  состоящих из более двух уравн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0" y="3071880"/>
          <a:ext cx="3852720" cy="28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71880"/>
                    <a:ext cx="385272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7" descr="chel13"/>
          <p:cNvPicPr/>
          <p:nvPr/>
        </p:nvPicPr>
        <p:blipFill>
          <a:blip r:embed="rId3"/>
          <a:stretch/>
        </p:blipFill>
        <p:spPr>
          <a:xfrm>
            <a:off x="7596360" y="5516640"/>
            <a:ext cx="11430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33cc"/>
                </a:solidFill>
                <a:latin typeface="Arial"/>
              </a:rPr>
              <a:t>Алгоритм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зить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одного уравнения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тавить полученное выражение вмест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угое уравнение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ть полученное уравнение относительн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тавить поочередно каждый из найденных  на третьем шаге корней уравнения вмест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выражение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</a:t>
            </a:r>
            <a:r>
              <a:rPr b="0" i="1" lang="ru-RU" sz="2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лученное на первом шаг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ать ответ в виде пар значений 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</a:t>
            </a:r>
            <a:r>
              <a:rPr b="0" i="1" lang="ru-RU" sz="2400" spc="-1" strike="noStrike">
                <a:solidFill>
                  <a:srgbClr val="ff33cc"/>
                </a:solidFill>
                <a:latin typeface="Arial"/>
              </a:rPr>
              <a:t>;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е были найдены соответственно на третьем и четвертом шаге;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image692"/>
          <p:cNvPicPr/>
          <p:nvPr/>
        </p:nvPicPr>
        <p:blipFill>
          <a:blip r:embed="rId1"/>
          <a:stretch/>
        </p:blipFill>
        <p:spPr>
          <a:xfrm>
            <a:off x="7451640" y="404640"/>
            <a:ext cx="1295640" cy="122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68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68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33cc"/>
                </a:solidFill>
                <a:latin typeface="Arial"/>
              </a:rPr>
              <a:t>Например решим систему уравнений:</a:t>
            </a:r>
            <a:br>
              <a:rPr sz="3800"/>
            </a:b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+3y=5,</a:t>
            </a:r>
            <a:br>
              <a:rPr sz="2400"/>
            </a:b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y=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зим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 первого уравнения: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=5-3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тавим полученное  выражение во второе уравн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         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(5-3y)y=</a:t>
            </a:r>
            <a:r>
              <a:rPr b="0" i="1" lang="ru-RU" sz="24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м полученное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5y-3y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²=2</a:t>
            </a:r>
            <a:r>
              <a:rPr b="0" i="1" lang="ru-RU" sz="2400" spc="-1" strike="noStrike">
                <a:solidFill>
                  <a:srgbClr val="ff33cc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3y²-5y+2=0</a:t>
            </a:r>
            <a:r>
              <a:rPr b="0" i="1" lang="ru-RU" sz="2400" spc="-1" strike="noStrike">
                <a:solidFill>
                  <a:srgbClr val="ff33cc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Y=1</a:t>
            </a:r>
            <a:r>
              <a:rPr b="0" i="1" lang="ru-RU" sz="2400" spc="-1" strike="noStrike">
                <a:solidFill>
                  <a:srgbClr val="ff33cc"/>
                </a:solidFill>
                <a:latin typeface="Arial"/>
                <a:ea typeface="Arial"/>
              </a:rPr>
              <a:t>;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y=2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3708360" y="1628640"/>
            <a:ext cx="216000" cy="5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30"/>
                </a:lnTo>
                <a:cubicBezTo>
                  <a:pt x="10800" y="9930"/>
                  <a:pt x="5400" y="10830"/>
                  <a:pt x="0" y="10830"/>
                </a:cubicBezTo>
                <a:cubicBezTo>
                  <a:pt x="5400" y="10830"/>
                  <a:pt x="10800" y="11730"/>
                  <a:pt x="10800" y="1263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aluno01"/>
          <p:cNvPicPr/>
          <p:nvPr/>
        </p:nvPicPr>
        <p:blipFill>
          <a:blip r:embed="rId1"/>
          <a:stretch/>
        </p:blipFill>
        <p:spPr>
          <a:xfrm>
            <a:off x="468360" y="4941720"/>
            <a:ext cx="877680" cy="1422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33cc"/>
                </a:solidFill>
                <a:latin typeface="Arial"/>
              </a:rPr>
              <a:t>Продолже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дставим поочередно каждое из найденных значений </a:t>
            </a:r>
            <a:r>
              <a:rPr b="0" i="1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формул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x=5-3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y=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 то </a:t>
            </a:r>
            <a:r>
              <a:rPr b="0" i="1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x=5-3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·</a:t>
            </a:r>
            <a:r>
              <a:rPr b="0" i="1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1=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; если </a:t>
            </a:r>
            <a:r>
              <a:rPr b="0" i="1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y=2/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 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x=5-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3·2/3=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ары </a:t>
            </a:r>
            <a:r>
              <a:rPr b="0" i="1" lang="ru-RU" sz="3200" spc="-1" strike="noStrike">
                <a:solidFill>
                  <a:srgbClr val="ff33cc"/>
                </a:solidFill>
                <a:latin typeface="Arial"/>
                <a:ea typeface="Arial"/>
              </a:rPr>
              <a:t>(2;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i="1" lang="ru-RU" sz="3200" spc="-1" strike="noStrike">
                <a:solidFill>
                  <a:srgbClr val="ff33cc"/>
                </a:solidFill>
                <a:latin typeface="Arial"/>
                <a:ea typeface="Arial"/>
              </a:rPr>
              <a:t>(3;</a:t>
            </a:r>
            <a:r>
              <a:rPr b="0" i="1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2/3</a:t>
            </a:r>
            <a:r>
              <a:rPr b="0" i="1" lang="ru-RU" sz="3200" spc="-1" strike="noStrike">
                <a:solidFill>
                  <a:srgbClr val="ff33cc"/>
                </a:solidFill>
                <a:latin typeface="Arial"/>
                <a:ea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ешение заданной системы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вет: </a:t>
            </a:r>
            <a:r>
              <a:rPr b="0" i="1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(2</a:t>
            </a:r>
            <a:r>
              <a:rPr b="0" i="1" lang="ru-RU" sz="3200" spc="-1" strike="noStrike">
                <a:solidFill>
                  <a:srgbClr val="ff33cc"/>
                </a:solidFill>
                <a:latin typeface="Arial"/>
                <a:ea typeface="Arial"/>
              </a:rPr>
              <a:t>;</a:t>
            </a:r>
            <a:r>
              <a:rPr b="0" i="1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1) </a:t>
            </a:r>
            <a:r>
              <a:rPr b="0" i="1" lang="ru-RU" sz="3200" spc="-1" strike="noStrike">
                <a:solidFill>
                  <a:srgbClr val="ff33cc"/>
                </a:solidFill>
                <a:latin typeface="Arial"/>
                <a:ea typeface="Arial"/>
              </a:rPr>
              <a:t>и (3;</a:t>
            </a:r>
            <a:r>
              <a:rPr b="0" i="1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2/3</a:t>
            </a:r>
            <a:r>
              <a:rPr b="0" i="1" lang="ru-RU" sz="3200" spc="-1" strike="noStrike">
                <a:solidFill>
                  <a:srgbClr val="ff33cc"/>
                </a:solidFill>
                <a:latin typeface="Arial"/>
                <a:ea typeface="Arial"/>
              </a:rPr>
              <a:t>)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aluno01"/>
          <p:cNvPicPr/>
          <p:nvPr/>
        </p:nvPicPr>
        <p:blipFill>
          <a:blip r:embed="rId1"/>
          <a:stretch/>
        </p:blipFill>
        <p:spPr>
          <a:xfrm>
            <a:off x="7093080" y="5157720"/>
            <a:ext cx="877680" cy="1422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4:03:17Z</dcterms:created>
  <dc:creator>316</dc:creator>
  <dc:description/>
  <dc:language>en-US</dc:language>
  <cp:lastModifiedBy>ILYA</cp:lastModifiedBy>
  <dcterms:modified xsi:type="dcterms:W3CDTF">2012-11-30T15:34:24Z</dcterms:modified>
  <cp:revision>7</cp:revision>
  <dc:subject/>
  <dc:title>Методы решения систем уравнений.</dc:title>
</cp:coreProperties>
</file>