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A667-7C07-4BFA-9B15-DFD16FB3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54C-AC2D-4F34-8B91-F87DB337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E5C7-56FC-453F-932C-6BA9295E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B8D-23CD-40F0-AB78-D58CB6BE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47CB-95AA-4C61-8AEA-6412D265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DAB0-7C8A-472A-AE61-EA3957EA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BF0C-113D-4A1B-A4EE-A00D1762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C194-1290-4E00-B2C0-3D0B2676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26BE-1DD2-40FB-BBCA-56AE1957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7AEC-03B8-4671-AC40-605C5F38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03B5-1F65-4A7B-AC69-D6673928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15E-8A3C-4F82-88D2-B7FBFD16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79DF-A0AF-4A3E-A14A-7198B5F2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71CC-CEA3-43B1-9A0C-93959972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A196-490A-4797-8AEA-76283F51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6C38-CE42-49EC-A927-DA688B61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0F0C-6C9E-4FF7-8F7D-9D413199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6D7E-0656-4E46-A104-AE99DA89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90EC-E9B1-4342-A7A3-35F1D527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1080-E040-4F7C-BF1C-8CB16251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2CB0-E71B-45B0-827C-7682F99F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190-89ED-475F-99F4-871323A9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141-C334-4222-AD0F-E0D3BCA1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003-BE4A-4DAC-8A93-25F10675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5AF0-5742-4788-9544-39A88EB872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2F91-DC2E-4FB6-880B-EDF3AA8935B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решения систем уравн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24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подстан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33cc"/>
                </a:solidFill>
                <a:latin typeface="Arial"/>
              </a:rPr>
              <a:t>Краткая характеристика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 для решения систем  любых двух уравнений с двумя переменны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ще используется учащими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гок и понятен в примене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егда применим (при решении симметрических систем уравнени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й метод не подходит для решения систем  состоящих из более двух уравн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0" y="3071880"/>
          <a:ext cx="3852720" cy="28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71880"/>
                    <a:ext cx="385272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7" descr="chel13"/>
          <p:cNvPicPr/>
          <p:nvPr/>
        </p:nvPicPr>
        <p:blipFill>
          <a:blip r:embed="rId3"/>
          <a:stretch/>
        </p:blipFill>
        <p:spPr>
          <a:xfrm>
            <a:off x="7596360" y="5516640"/>
            <a:ext cx="1143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33cc"/>
                </a:solidFill>
                <a:latin typeface="Arial"/>
              </a:rPr>
              <a:t>Алгоритм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зить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одного уравнения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тавить полученное выражение вмест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угое уравнение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ь полученное уравнение относительн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тавить поочередно каждый из найденных  на третьем шаге корней уравнения вмест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выражение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лученное на первом шаг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ать ответ в виде пар значений 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;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е были найдены соответственно на третьем и четвертом шаге;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image692"/>
          <p:cNvPicPr/>
          <p:nvPr/>
        </p:nvPicPr>
        <p:blipFill>
          <a:blip r:embed="rId1"/>
          <a:stretch/>
        </p:blipFill>
        <p:spPr>
          <a:xfrm>
            <a:off x="7451640" y="404640"/>
            <a:ext cx="1295640" cy="122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68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68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33cc"/>
                </a:solidFill>
                <a:latin typeface="Arial"/>
              </a:rPr>
              <a:t>Например решим систему уравнений:</a:t>
            </a:r>
            <a:br>
              <a:rPr sz="3800"/>
            </a:b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+3y=5,</a:t>
            </a:r>
            <a:br>
              <a:rPr sz="2400"/>
            </a:b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y=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зим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 первого уравнения: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=5-3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тавим полученное  выражение во второе уравн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         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(5-3y)y=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м полученное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5y-3y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²=2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3y²-5y+2=0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Y=1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  <a:ea typeface="Arial"/>
              </a:rPr>
              <a:t>;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y=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3708360" y="162864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30"/>
                </a:lnTo>
                <a:cubicBezTo>
                  <a:pt x="10800" y="9930"/>
                  <a:pt x="5400" y="10830"/>
                  <a:pt x="0" y="10830"/>
                </a:cubicBezTo>
                <a:cubicBezTo>
                  <a:pt x="5400" y="10830"/>
                  <a:pt x="10800" y="11730"/>
                  <a:pt x="10800" y="1263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aluno01"/>
          <p:cNvPicPr/>
          <p:nvPr/>
        </p:nvPicPr>
        <p:blipFill>
          <a:blip r:embed="rId1"/>
          <a:stretch/>
        </p:blipFill>
        <p:spPr>
          <a:xfrm>
            <a:off x="468360" y="4941720"/>
            <a:ext cx="877680" cy="1422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33cc"/>
                </a:solidFill>
                <a:latin typeface="Arial"/>
              </a:rPr>
              <a:t>Продолже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дставим поочередно каждое из найденных значений 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формул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x=5-3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y=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то 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x=5-3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·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1=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; если 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y=2/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x=5-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3·2/3=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ары </a:t>
            </a:r>
            <a:r>
              <a:rPr b="0" i="1" lang="ru-RU" sz="3200" spc="-1" strike="noStrike">
                <a:solidFill>
                  <a:srgbClr val="ff33cc"/>
                </a:solidFill>
                <a:latin typeface="Arial"/>
                <a:ea typeface="Arial"/>
              </a:rPr>
              <a:t>(2;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i="1" lang="ru-RU" sz="3200" spc="-1" strike="noStrike">
                <a:solidFill>
                  <a:srgbClr val="ff33cc"/>
                </a:solidFill>
                <a:latin typeface="Arial"/>
                <a:ea typeface="Arial"/>
              </a:rPr>
              <a:t>(3;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2/3</a:t>
            </a:r>
            <a:r>
              <a:rPr b="0" i="1" lang="ru-RU" sz="3200" spc="-1" strike="noStrike">
                <a:solidFill>
                  <a:srgbClr val="ff33cc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шение заданной системы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(2</a:t>
            </a:r>
            <a:r>
              <a:rPr b="0" i="1" lang="ru-RU" sz="3200" spc="-1" strike="noStrike">
                <a:solidFill>
                  <a:srgbClr val="ff33cc"/>
                </a:solidFill>
                <a:latin typeface="Arial"/>
                <a:ea typeface="Arial"/>
              </a:rPr>
              <a:t>;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1) </a:t>
            </a:r>
            <a:r>
              <a:rPr b="0" i="1" lang="ru-RU" sz="3200" spc="-1" strike="noStrike">
                <a:solidFill>
                  <a:srgbClr val="ff33cc"/>
                </a:solidFill>
                <a:latin typeface="Arial"/>
                <a:ea typeface="Arial"/>
              </a:rPr>
              <a:t>и (3;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2/3</a:t>
            </a:r>
            <a:r>
              <a:rPr b="0" i="1" lang="ru-RU" sz="3200" spc="-1" strike="noStrike">
                <a:solidFill>
                  <a:srgbClr val="ff33cc"/>
                </a:solidFill>
                <a:latin typeface="Arial"/>
                <a:ea typeface="Arial"/>
              </a:rPr>
              <a:t>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aluno01"/>
          <p:cNvPicPr/>
          <p:nvPr/>
        </p:nvPicPr>
        <p:blipFill>
          <a:blip r:embed="rId1"/>
          <a:stretch/>
        </p:blipFill>
        <p:spPr>
          <a:xfrm>
            <a:off x="7093080" y="5157720"/>
            <a:ext cx="877680" cy="1422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4:03:17Z</dcterms:created>
  <dc:creator>316</dc:creator>
  <dc:description/>
  <dc:language>en-US</dc:language>
  <cp:lastModifiedBy>ILYA</cp:lastModifiedBy>
  <dcterms:modified xsi:type="dcterms:W3CDTF">2012-11-30T15:34:24Z</dcterms:modified>
  <cp:revision>7</cp:revision>
  <dc:subject/>
  <dc:title>Методы решения систем уравнений.</dc:title>
</cp:coreProperties>
</file>