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jpeg" ContentType="image/jpeg"/>
  <Override PartName="/ppt/media/image4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EC1-DC2E-4398-A409-6A9D83E3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1AD-53B9-45E9-A098-F39F37E6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B7A-B979-4F37-97AF-1B236940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275-0823-4199-B9B9-162A631F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7211-A9CD-4B70-8FFE-1CBA5AAF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1FF-E300-4507-95F0-D27A10F8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4F80-DAC9-49B4-8962-2457F56D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46DA-886D-4B62-A61B-A03861D5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0B31-4F4B-4F6F-B66A-0ABD60C0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AC83-D728-4230-B6E0-657275FB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537C-2B9A-409B-AA63-6303135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303-B2B9-4C65-A91C-2C7A1ECC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2725-6738-46CD-9127-650444B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54FD-29CB-4FE8-B0B9-CBFC1BF0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2A71-08B3-49CE-9AAA-536015B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583-17BF-40D3-B3D2-C05326FE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6BD4-C7C7-465C-8703-8F75FF38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F08-4FA6-4868-ACF2-1BC13B8E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A41-476D-4652-8074-19CC66D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A10-626A-42C6-B64E-3C3C58F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556-5358-4AA5-A01E-E179EE8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DDA-7BBA-4283-840F-925F4A7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0FC-0EB1-4926-857F-8B08AA0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1D3-676A-4D0E-A551-728FF5C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8D2B-84A4-4162-8513-A0A0C06649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5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26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27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28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37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38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39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40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41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42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3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44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45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46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47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C9FD-B61D-4FD1-87AC-EFEA7BFB84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624852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lackadder ITC"/>
              </a:rPr>
              <a:t>Методы решения систем уравнений</a:t>
            </a:r>
            <a:endParaRPr b="0" lang="en-US" sz="5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42920" y="2491920"/>
            <a:ext cx="61405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Narrow"/>
              </a:rPr>
              <a:t>Метод введения новой переменно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Arial Narrow"/>
              </a:rPr>
              <a:t>проблема</a:t>
            </a:r>
            <a:endParaRPr b="0" lang="en-US" sz="6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а система уравн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+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-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-у     х+у      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 + у = 6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Narrow"/>
              </a:rPr>
              <a:t>Как найти решение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1258920" y="256536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1979640" y="29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2124000" y="278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3059280" y="2781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3059280" y="29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2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2665440" cy="215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971640" cy="7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Narrow"/>
              </a:rPr>
              <a:t>Нужно ввести новую переменную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+ 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-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-у             х+у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3300"/>
                </a:solidFill>
                <a:latin typeface="Arial Narrow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492360" y="414972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0200" y="285264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5580000" y="2852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5580000" y="2997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tebulb"/>
          <p:cNvSpPr/>
          <p:nvPr/>
        </p:nvSpPr>
        <p:spPr>
          <a:xfrm>
            <a:off x="8028000" y="333360"/>
            <a:ext cx="863640" cy="1152720"/>
          </a:xfrm>
          <a:custGeom>
            <a:avLst/>
            <a:gdLst>
              <a:gd name="textAreaLeft" fmla="*/ 142200 w 863640"/>
              <a:gd name="textAreaRight" fmla="*/ 730800 w 863640"/>
              <a:gd name="textAreaTop" fmla="*/ 116640 h 1152720"/>
              <a:gd name="textAreaBottom" fmla="*/ 495360 h 11527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2" descr="j0267136[1]"/>
          <p:cNvPicPr/>
          <p:nvPr/>
        </p:nvPicPr>
        <p:blipFill>
          <a:blip r:embed="rId1"/>
          <a:stretch/>
        </p:blipFill>
        <p:spPr>
          <a:xfrm>
            <a:off x="2700360" y="2781360"/>
            <a:ext cx="154080" cy="358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j0267136[1]"/>
          <p:cNvPicPr/>
          <p:nvPr/>
        </p:nvPicPr>
        <p:blipFill>
          <a:blip r:embed="rId2"/>
          <a:stretch/>
        </p:blipFill>
        <p:spPr>
          <a:xfrm>
            <a:off x="5796000" y="2997360"/>
            <a:ext cx="154080" cy="358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97164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16"/>
          <p:cNvSpPr/>
          <p:nvPr/>
        </p:nvSpPr>
        <p:spPr>
          <a:xfrm>
            <a:off x="2987640" y="2852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2987640" y="2997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9"/>
          <p:cNvSpPr/>
          <p:nvPr/>
        </p:nvSpPr>
        <p:spPr>
          <a:xfrm>
            <a:off x="4140360" y="2708280"/>
            <a:ext cx="576000" cy="504720"/>
          </a:xfrm>
          <a:prstGeom prst="rightArrow">
            <a:avLst>
              <a:gd name="adj1" fmla="val 50000"/>
              <a:gd name="adj2" fmla="val 28531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0" descr="j0267136[1]"/>
          <p:cNvPicPr/>
          <p:nvPr/>
        </p:nvPicPr>
        <p:blipFill>
          <a:blip r:embed="rId4"/>
          <a:stretch/>
        </p:blipFill>
        <p:spPr>
          <a:xfrm>
            <a:off x="3708360" y="4149720"/>
            <a:ext cx="279360" cy="649440"/>
          </a:xfrm>
          <a:prstGeom prst="rect">
            <a:avLst/>
          </a:prstGeom>
          <a:ln w="0">
            <a:noFill/>
          </a:ln>
        </p:spPr>
      </p:pic>
      <p:sp>
        <p:nvSpPr>
          <p:cNvPr id="173" name="Line 21"/>
          <p:cNvSpPr/>
          <p:nvPr/>
        </p:nvSpPr>
        <p:spPr>
          <a:xfrm>
            <a:off x="4211640" y="4365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4211640" y="450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4284720" y="422100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4"/>
          <p:cNvSpPr/>
          <p:nvPr/>
        </p:nvSpPr>
        <p:spPr>
          <a:xfrm>
            <a:off x="4788000" y="4149720"/>
            <a:ext cx="288720" cy="647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3132000" y="3789360"/>
            <a:ext cx="2592360" cy="151128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ервое уравнение системы перепишем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3188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4452480" y="3246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j0267136[1]"/>
          <p:cNvPicPr/>
          <p:nvPr/>
        </p:nvPicPr>
        <p:blipFill>
          <a:blip r:embed="rId2"/>
          <a:stretch/>
        </p:blipFill>
        <p:spPr>
          <a:xfrm>
            <a:off x="1979640" y="3357720"/>
            <a:ext cx="185760" cy="431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267136[1]"/>
          <p:cNvPicPr/>
          <p:nvPr/>
        </p:nvPicPr>
        <p:blipFill>
          <a:blip r:embed="rId3"/>
          <a:stretch/>
        </p:blipFill>
        <p:spPr>
          <a:xfrm>
            <a:off x="2916360" y="3645000"/>
            <a:ext cx="153720" cy="358560"/>
          </a:xfrm>
          <a:prstGeom prst="rect">
            <a:avLst/>
          </a:prstGeom>
          <a:ln w="0">
            <a:noFill/>
          </a:ln>
        </p:spPr>
      </p:pic>
      <p:sp>
        <p:nvSpPr>
          <p:cNvPr id="183" name="Line 17"/>
          <p:cNvSpPr/>
          <p:nvPr/>
        </p:nvSpPr>
        <p:spPr>
          <a:xfrm>
            <a:off x="2340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1619280" y="3213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+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-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-у     х+у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411280" y="3573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2484360" y="3500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9" descr="j0336915"/>
          <p:cNvPicPr/>
          <p:nvPr/>
        </p:nvPicPr>
        <p:blipFill>
          <a:blip r:embed="rId4"/>
          <a:stretch/>
        </p:blipFill>
        <p:spPr>
          <a:xfrm>
            <a:off x="5580000" y="2421000"/>
            <a:ext cx="2735280" cy="3672000"/>
          </a:xfrm>
          <a:prstGeom prst="rect">
            <a:avLst/>
          </a:prstGeom>
          <a:ln w="0">
            <a:noFill/>
          </a:ln>
        </p:spPr>
      </p:pic>
      <p:sp>
        <p:nvSpPr>
          <p:cNvPr id="188" name="Line 34"/>
          <p:cNvSpPr/>
          <p:nvPr/>
        </p:nvSpPr>
        <p:spPr>
          <a:xfrm flipV="1">
            <a:off x="2916360" y="3357720"/>
            <a:ext cx="71280" cy="7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2987640" y="33577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2771640" y="357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тается только решить ег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3419640" y="3500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3419640" y="3645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Первое уравнение системы примет вид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- 13  + 6 = 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сюда находи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2/3;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3/2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им образом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    3                 х       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 = 3х/2 или у = 2х/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6" name="Picture 4" descr="j0267136[1]"/>
          <p:cNvPicPr/>
          <p:nvPr/>
        </p:nvPicPr>
        <p:blipFill>
          <a:blip r:embed="rId1"/>
          <a:stretch/>
        </p:blipFill>
        <p:spPr>
          <a:xfrm>
            <a:off x="1619280" y="1916280"/>
            <a:ext cx="144360" cy="358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267136[1]"/>
          <p:cNvPicPr/>
          <p:nvPr/>
        </p:nvPicPr>
        <p:blipFill>
          <a:blip r:embed="rId2"/>
          <a:stretch/>
        </p:blipFill>
        <p:spPr>
          <a:xfrm>
            <a:off x="2556000" y="1916280"/>
            <a:ext cx="153720" cy="35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267136[1]"/>
          <p:cNvPicPr/>
          <p:nvPr/>
        </p:nvPicPr>
        <p:blipFill>
          <a:blip r:embed="rId3"/>
          <a:stretch/>
        </p:blipFill>
        <p:spPr>
          <a:xfrm>
            <a:off x="1763640" y="2852640"/>
            <a:ext cx="154080" cy="358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>
            <a:off x="1619280" y="4581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1619280" y="47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4067280" y="4581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4067280" y="47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1547640" y="494172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924360" y="501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6" descr="j0267136[1]"/>
          <p:cNvPicPr/>
          <p:nvPr/>
        </p:nvPicPr>
        <p:blipFill>
          <a:blip r:embed="rId4"/>
          <a:stretch/>
        </p:blipFill>
        <p:spPr>
          <a:xfrm>
            <a:off x="3348000" y="2924280"/>
            <a:ext cx="154080" cy="358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j0336915"/>
          <p:cNvPicPr/>
          <p:nvPr/>
        </p:nvPicPr>
        <p:blipFill>
          <a:blip r:embed="rId5"/>
          <a:stretch/>
        </p:blipFill>
        <p:spPr>
          <a:xfrm>
            <a:off x="5580000" y="2421000"/>
            <a:ext cx="2735280" cy="367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8" descr=""/>
          <p:cNvPicPr/>
          <p:nvPr/>
        </p:nvPicPr>
        <p:blipFill>
          <a:blip r:embed="rId6"/>
          <a:stretch/>
        </p:blipFill>
        <p:spPr>
          <a:xfrm>
            <a:off x="468360" y="549360"/>
            <a:ext cx="73188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Получим две системы уравнен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31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 = 3х/2,                             у = 2х/3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х+ у =5;                             х+ у =5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етодом подстановки переменной найдем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х1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2, </a:t>
            </a: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у1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3;   </a:t>
            </a: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х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3, </a:t>
            </a: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у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2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 Narrow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2; 3) , (3; 2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31880" cy="7207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1979640" y="198900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012000" y="1989000"/>
            <a:ext cx="72720" cy="9367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6:21:52Z</dcterms:created>
  <dc:creator>Света</dc:creator>
  <dc:description/>
  <dc:language>en-US</dc:language>
  <cp:lastModifiedBy>ILYA</cp:lastModifiedBy>
  <dcterms:modified xsi:type="dcterms:W3CDTF">2012-11-30T15:36:13Z</dcterms:modified>
  <cp:revision>6</cp:revision>
  <dc:subject/>
  <dc:title>Методы решения систем уравне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71049</vt:lpwstr>
  </property>
</Properties>
</file>