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B67-2681-4CD6-B9B7-7D9F1E73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4A8-DDBE-462F-9FE1-18C733A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135-98F3-473F-A18F-F2FF1A06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830-1CA5-47DB-BA6D-C7BDF1A7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CC71-D46A-45B7-B04B-EE28CAF9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B93-7D3A-48B3-BCC2-B341C3E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BC70-771D-44D4-A4CE-B9789705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3293-178B-4CC8-A1C6-5BA8C92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58C-85FC-450E-BDDA-7C7BBE4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8F77-495E-457E-85A7-17EABEEB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9675-8979-4FCD-849C-0B3615E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BEE-CCED-4C43-8F07-CAAF44EF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A6EC-6DDD-4F84-8E27-8B401B4F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3E39-3022-4C91-9F9A-9A129685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5B78-BD52-41A3-90C5-35182EA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A30C-2C0C-4A09-BF4B-893A4DC3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F6D6-D486-4638-B330-09FF27C6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4C3-55C6-4994-8C30-189C1DC7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0EE-0F03-4E1C-BF3F-4577B16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993-9502-40E7-9657-69AD0ABA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64D-0B4F-47F3-92F2-E413ECA2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E3C-05E7-4889-BBB6-7BAEC2E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930-256E-4E92-B6D6-ED74519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3F4-3721-4E98-A66A-486CE24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4D8-2049-48A9-B783-04BEF4FFB8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4E9F-2FC4-4943-8D7A-AC7572BBF33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404640"/>
            <a:ext cx="482436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9999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истемы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уравнен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2204640"/>
            <a:ext cx="7921440" cy="259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6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a8456"/>
                </a:solidFill>
                <a:latin typeface="Verdana"/>
              </a:rPr>
              <a:t>Метод сложения</a:t>
            </a:r>
            <a:r>
              <a:rPr b="1" lang="en-US" sz="2400" spc="-1" strike="noStrike">
                <a:solidFill>
                  <a:srgbClr val="aa845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6800" y="304560"/>
            <a:ext cx="6643440" cy="105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c85e"/>
                </a:solidFill>
                <a:latin typeface="Arial"/>
              </a:rPr>
              <a:t>АЛГОРИТМ МЕТОДА СЛОЖ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ОБРАЗОВАТЬ  КОЭФФИЦИЕНТЫ ТАК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ЧТОБЫ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эффициенты при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ли при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и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ТИВОПОЛОЖНЫМИ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ислами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+Y=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Y=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ЛОЖИТЬ УРАВНЕНИ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9933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2X+4X+Y-Y=3+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ШИТЬ УРАВНЕНИЕ С ОДНОЙ ПЕРЕМЕННОЙ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        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+4X=1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6X=12 |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X=2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900000" y="2349360"/>
            <a:ext cx="144720" cy="648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88"/>
                </a:lnTo>
                <a:cubicBezTo>
                  <a:pt x="10800" y="10988"/>
                  <a:pt x="5400" y="11888"/>
                  <a:pt x="0" y="11888"/>
                </a:cubicBezTo>
                <a:cubicBezTo>
                  <a:pt x="5400" y="11888"/>
                  <a:pt x="10800" y="12788"/>
                  <a:pt x="10800" y="136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c85e"/>
                </a:solidFill>
                <a:latin typeface="Arial"/>
              </a:rPr>
              <a:t>АЛГОРИТМ МЕТОДА</a:t>
            </a: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ec85e"/>
                </a:solidFill>
                <a:latin typeface="Arial"/>
              </a:rPr>
              <a:t>СЛОЖЕНИЯ </a:t>
            </a:r>
            <a:r>
              <a:rPr b="0" lang="ru-RU" sz="2000" spc="-1" strike="noStrike">
                <a:solidFill>
                  <a:srgbClr val="eec85e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ХОДИМ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Y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ПОДСТАВЛЯЯ 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ОДНО ИЗ ПЕРВОНАЧАЛЬНЫХ  УРАВНЕНИЙ: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.к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=2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X +Y=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•2+Y=3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4+Y=3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Y=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1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.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ИСАТЬ В ОТВЕТ ЧЕМУ РАВНЯЮТСЯ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ВЕТ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=2,Y=-1.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16898 L 0.01111 -0.50232 E">
                                      <p:cBhvr>
                                        <p:cTn id="7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33333 L 2.77778E-006 -0.66666 E">
                                      <p:cBhvr>
                                        <p:cTn id="7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38426 L 0.00139 -0.71759 E">
                                      <p:cBhvr>
                                        <p:cTn id="78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45856 L -0.0276 -0.79189 E">
                                      <p:cBhvr>
                                        <p:cTn id="82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5 -0.55394 L -0.01355 -0.88727 E">
                                      <p:cBhvr>
                                        <p:cTn id="86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67084 L -0.0125 -1.00417 E">
                                      <p:cBhvr>
                                        <p:cTn id="9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69 -0.72408 L 0.05469 -1.05741 E">
                                      <p:cBhvr>
                                        <p:cTn id="94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eec85e"/>
                </a:solidFill>
                <a:latin typeface="Arial"/>
              </a:rPr>
              <a:t>ПРЕИМУЩЕСТВА И НЕДОСТАТКИ МЕТО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072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Verdana"/>
              </a:rPr>
              <a:t>ПРЕИМУЩЕСТВА</a:t>
            </a: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1.  Систему уравнений легче решать методом сложения, когда коэффициенты при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и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Y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сразу являются противоположными числами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2.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етод позволяет быстро исключить одну из неизвестных переменных и найти другую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Verdana"/>
              </a:rPr>
              <a:t>НЕДОСТАТКИ</a:t>
            </a: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етод сложения невозможно применить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когда у переменных в двух уравнениях разны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показатели степени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.                                            </a:t>
            </a:r>
            <a:r>
              <a:rPr b="1" lang="ru-RU" sz="1800" spc="-1" strike="noStrike">
                <a:solidFill>
                  <a:srgbClr val="99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Verdana"/>
              </a:rPr>
              <a:t>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3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3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7:47:26Z</dcterms:created>
  <dc:creator>07b</dc:creator>
  <dc:description/>
  <dc:language>en-US</dc:language>
  <cp:lastModifiedBy>ILYA</cp:lastModifiedBy>
  <dcterms:modified xsi:type="dcterms:W3CDTF">2012-11-30T15:35:28Z</dcterms:modified>
  <cp:revision>31</cp:revision>
  <dc:subject/>
  <dc:title>Система уравнений</dc:title>
</cp:coreProperties>
</file>